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89.xml.rels" ContentType="application/vnd.openxmlformats-package.relationships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  <p:sldId id="301" r:id="rId79"/>
    <p:sldId id="302" r:id="rId80"/>
    <p:sldId id="303" r:id="rId81"/>
    <p:sldId id="304" r:id="rId82"/>
    <p:sldId id="305" r:id="rId83"/>
    <p:sldId id="306" r:id="rId84"/>
    <p:sldId id="307" r:id="rId85"/>
    <p:sldId id="308" r:id="rId86"/>
    <p:sldId id="309" r:id="rId87"/>
    <p:sldId id="310" r:id="rId88"/>
    <p:sldId id="311" r:id="rId89"/>
    <p:sldId id="312" r:id="rId90"/>
    <p:sldId id="313" r:id="rId91"/>
    <p:sldId id="314" r:id="rId92"/>
    <p:sldId id="315" r:id="rId93"/>
    <p:sldId id="316" r:id="rId94"/>
    <p:sldId id="317" r:id="rId95"/>
    <p:sldId id="318" r:id="rId96"/>
    <p:sldId id="319" r:id="rId97"/>
    <p:sldId id="320" r:id="rId98"/>
    <p:sldId id="321" r:id="rId99"/>
    <p:sldId id="322" r:id="rId100"/>
    <p:sldId id="323" r:id="rId101"/>
    <p:sldId id="324" r:id="rId102"/>
    <p:sldId id="325" r:id="rId103"/>
    <p:sldId id="326" r:id="rId104"/>
    <p:sldId id="327" r:id="rId105"/>
    <p:sldId id="328" r:id="rId106"/>
    <p:sldId id="329" r:id="rId107"/>
    <p:sldId id="330" r:id="rId108"/>
    <p:sldId id="331" r:id="rId109"/>
    <p:sldId id="332" r:id="rId110"/>
    <p:sldId id="333" r:id="rId111"/>
    <p:sldId id="334" r:id="rId112"/>
    <p:sldId id="335" r:id="rId113"/>
    <p:sldId id="336" r:id="rId114"/>
    <p:sldId id="337" r:id="rId115"/>
    <p:sldId id="338" r:id="rId116"/>
    <p:sldId id="339" r:id="rId117"/>
    <p:sldId id="340" r:id="rId118"/>
    <p:sldId id="341" r:id="rId119"/>
    <p:sldId id="342" r:id="rId120"/>
    <p:sldId id="343" r:id="rId121"/>
    <p:sldId id="344" r:id="rId122"/>
    <p:sldId id="345" r:id="rId123"/>
    <p:sldId id="346" r:id="rId124"/>
    <p:sldId id="347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slide" Target="slides/slide46.xml"/><Relationship Id="rId80" Type="http://schemas.openxmlformats.org/officeDocument/2006/relationships/slide" Target="slides/slide47.xml"/><Relationship Id="rId81" Type="http://schemas.openxmlformats.org/officeDocument/2006/relationships/slide" Target="slides/slide48.xml"/><Relationship Id="rId82" Type="http://schemas.openxmlformats.org/officeDocument/2006/relationships/slide" Target="slides/slide49.xml"/><Relationship Id="rId83" Type="http://schemas.openxmlformats.org/officeDocument/2006/relationships/slide" Target="slides/slide50.xml"/><Relationship Id="rId84" Type="http://schemas.openxmlformats.org/officeDocument/2006/relationships/slide" Target="slides/slide51.xml"/><Relationship Id="rId85" Type="http://schemas.openxmlformats.org/officeDocument/2006/relationships/slide" Target="slides/slide52.xml"/><Relationship Id="rId86" Type="http://schemas.openxmlformats.org/officeDocument/2006/relationships/slide" Target="slides/slide53.xml"/><Relationship Id="rId87" Type="http://schemas.openxmlformats.org/officeDocument/2006/relationships/slide" Target="slides/slide54.xml"/><Relationship Id="rId88" Type="http://schemas.openxmlformats.org/officeDocument/2006/relationships/slide" Target="slides/slide55.xml"/><Relationship Id="rId89" Type="http://schemas.openxmlformats.org/officeDocument/2006/relationships/slide" Target="slides/slide56.xml"/><Relationship Id="rId90" Type="http://schemas.openxmlformats.org/officeDocument/2006/relationships/slide" Target="slides/slide57.xml"/><Relationship Id="rId91" Type="http://schemas.openxmlformats.org/officeDocument/2006/relationships/slide" Target="slides/slide58.xml"/><Relationship Id="rId92" Type="http://schemas.openxmlformats.org/officeDocument/2006/relationships/slide" Target="slides/slide59.xml"/><Relationship Id="rId93" Type="http://schemas.openxmlformats.org/officeDocument/2006/relationships/slide" Target="slides/slide60.xml"/><Relationship Id="rId94" Type="http://schemas.openxmlformats.org/officeDocument/2006/relationships/slide" Target="slides/slide61.xml"/><Relationship Id="rId95" Type="http://schemas.openxmlformats.org/officeDocument/2006/relationships/slide" Target="slides/slide62.xml"/><Relationship Id="rId96" Type="http://schemas.openxmlformats.org/officeDocument/2006/relationships/slide" Target="slides/slide63.xml"/><Relationship Id="rId97" Type="http://schemas.openxmlformats.org/officeDocument/2006/relationships/slide" Target="slides/slide64.xml"/><Relationship Id="rId98" Type="http://schemas.openxmlformats.org/officeDocument/2006/relationships/slide" Target="slides/slide65.xml"/><Relationship Id="rId99" Type="http://schemas.openxmlformats.org/officeDocument/2006/relationships/slide" Target="slides/slide66.xml"/><Relationship Id="rId100" Type="http://schemas.openxmlformats.org/officeDocument/2006/relationships/slide" Target="slides/slide67.xml"/><Relationship Id="rId101" Type="http://schemas.openxmlformats.org/officeDocument/2006/relationships/slide" Target="slides/slide68.xml"/><Relationship Id="rId102" Type="http://schemas.openxmlformats.org/officeDocument/2006/relationships/slide" Target="slides/slide69.xml"/><Relationship Id="rId103" Type="http://schemas.openxmlformats.org/officeDocument/2006/relationships/slide" Target="slides/slide70.xml"/><Relationship Id="rId104" Type="http://schemas.openxmlformats.org/officeDocument/2006/relationships/slide" Target="slides/slide71.xml"/><Relationship Id="rId105" Type="http://schemas.openxmlformats.org/officeDocument/2006/relationships/slide" Target="slides/slide72.xml"/><Relationship Id="rId106" Type="http://schemas.openxmlformats.org/officeDocument/2006/relationships/slide" Target="slides/slide73.xml"/><Relationship Id="rId107" Type="http://schemas.openxmlformats.org/officeDocument/2006/relationships/slide" Target="slides/slide74.xml"/><Relationship Id="rId108" Type="http://schemas.openxmlformats.org/officeDocument/2006/relationships/slide" Target="slides/slide75.xml"/><Relationship Id="rId109" Type="http://schemas.openxmlformats.org/officeDocument/2006/relationships/slide" Target="slides/slide76.xml"/><Relationship Id="rId110" Type="http://schemas.openxmlformats.org/officeDocument/2006/relationships/slide" Target="slides/slide77.xml"/><Relationship Id="rId111" Type="http://schemas.openxmlformats.org/officeDocument/2006/relationships/slide" Target="slides/slide78.xml"/><Relationship Id="rId112" Type="http://schemas.openxmlformats.org/officeDocument/2006/relationships/slide" Target="slides/slide79.xml"/><Relationship Id="rId113" Type="http://schemas.openxmlformats.org/officeDocument/2006/relationships/slide" Target="slides/slide80.xml"/><Relationship Id="rId114" Type="http://schemas.openxmlformats.org/officeDocument/2006/relationships/slide" Target="slides/slide81.xml"/><Relationship Id="rId115" Type="http://schemas.openxmlformats.org/officeDocument/2006/relationships/slide" Target="slides/slide82.xml"/><Relationship Id="rId116" Type="http://schemas.openxmlformats.org/officeDocument/2006/relationships/slide" Target="slides/slide83.xml"/><Relationship Id="rId117" Type="http://schemas.openxmlformats.org/officeDocument/2006/relationships/slide" Target="slides/slide84.xml"/><Relationship Id="rId118" Type="http://schemas.openxmlformats.org/officeDocument/2006/relationships/slide" Target="slides/slide85.xml"/><Relationship Id="rId119" Type="http://schemas.openxmlformats.org/officeDocument/2006/relationships/slide" Target="slides/slide86.xml"/><Relationship Id="rId120" Type="http://schemas.openxmlformats.org/officeDocument/2006/relationships/slide" Target="slides/slide87.xml"/><Relationship Id="rId121" Type="http://schemas.openxmlformats.org/officeDocument/2006/relationships/slide" Target="slides/slide88.xml"/><Relationship Id="rId122" Type="http://schemas.openxmlformats.org/officeDocument/2006/relationships/slide" Target="slides/slide89.xml"/><Relationship Id="rId123" Type="http://schemas.openxmlformats.org/officeDocument/2006/relationships/slide" Target="slides/slide90.xml"/><Relationship Id="rId124" Type="http://schemas.openxmlformats.org/officeDocument/2006/relationships/slide" Target="slides/slide91.xml"/><Relationship Id="rId125" Type="http://schemas.openxmlformats.org/officeDocument/2006/relationships/slide" Target="slides/slide92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dt" idx="9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ftr" idx="9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 type="sldNum" idx="9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D82-9CB2-4B2F-BF7E-5B272EF307D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52E-54AE-4E22-BCC9-EE4D013A09DC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3D2-9684-4889-97BF-2CAFFB44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AE4-E7C2-41A8-B0C5-CB5E464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09EF0-AA4C-4E7A-82A9-B7E2998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788E-046D-44FF-8AAB-47C4406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06B0-C271-4901-843C-58B69505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8AC3A-59AF-4927-8803-AEB4190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47E0-D99D-4E1A-A38B-13F9011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CE03E-7A5E-491E-BA8E-F2C45062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523F-4C78-446C-A06F-0FCE592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4D291-FD93-405F-86A5-7C69DDA4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E46D1-AAFA-4725-8E74-3EE3648C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260B-F164-4793-82AE-9E14D34C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425-55B0-4773-8CF4-68BA987C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3F38D-969E-4494-BFD6-49B1749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80162-158F-4C8A-B1B9-953C8F40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A61DE-AC90-42A3-873C-A47D184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94C88-5A23-454C-9B60-990F6F9C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3CE7-B9F7-49EA-B456-E37DEEC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D7419-62C3-4997-9389-B3FA1D8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BE7CE-EFCA-4ACC-8279-2C01042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9CBF0-61DA-42EE-AE6D-006F655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6A333-ED28-43BB-B976-E9F609EA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9433B-D3E0-4562-AF00-AD95617A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516-FA13-42A6-BC04-568D404A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6D7C0-F143-40DA-8E68-A5983312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199D-3206-4709-9C20-3A53693A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13EB6-49B5-417B-BCF6-A39A28CD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F6154-9C32-4675-A74A-6373306D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CA0C3-F711-47CB-9D1B-7324C68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8553D-6FA0-4A7B-A259-91A052C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071B7-2950-4EB8-8EBC-A6772D0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03625-8566-46A4-AFA2-CAA39DCE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B2A7D-5E29-4AF4-96C0-A5816EE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2B7C7-22FA-43A3-97F7-4DD0335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2E2-00FC-4DB9-9679-F31F2562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7639F-0651-44EB-9F40-E2DC6EF8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3589-DE4E-4C56-B935-0874D4D5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12EDF-D973-4B53-8D80-56389BAC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C9290-834C-4F7C-833E-EBF9AD88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E3C42-E4AB-4734-87A8-9711D38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5E088-157E-418E-9EC7-65B48A92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029D0-55F7-4E9E-A503-6915EFFA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B34F-7308-4908-B244-C8EB25D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30277-B5E4-42C6-A439-55F88E61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5C80D-4AF6-4042-A1E7-58B9238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9FAE-66BF-4434-AD13-7AF91A08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0F46-5C45-4421-9BBD-08F6C531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EC46-E488-4B7F-913C-78F0BAD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2CF7-17EE-4418-8806-490860A1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EEA01-BE18-4082-B5D1-6978ED9E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6ACA4-7888-4EEF-A879-3B6E2C8B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D26CE-CA51-4186-BB77-E5512E93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E993-3FDC-4D53-9915-2274D15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B1714-54EB-42B5-AFAF-F96D0CE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7032-67CD-4D36-871A-F30B66A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E3B23-FB92-45E4-A507-0EC4594D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3598-80B4-4A3F-A353-349D2616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616A5-4B97-4114-9E7C-7286838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76436-3478-4BCB-B98B-8B68A9D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F7D1-8BB1-4056-BFF9-5DE81DE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D811F-07F6-4ECA-89E9-5BB640E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BECA7-842D-4AB6-AF64-88FA80F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1015-3603-477D-81C9-6731A484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1AE9D-617D-49CA-BEC7-F46D606F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6BBFA-CB1F-4252-A361-4E61FA97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9FF27-900E-4D6C-BEC4-9C13252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8DCF4-1EBD-4141-9F49-39FD89F0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21FA-E6E0-4AFA-A0AA-805426F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E7C2C-0A7C-428D-99D0-2BF20CF8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B8C9E-BCF2-4037-A67C-C8CF907D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D3072-1157-45B0-9DBC-4451AB3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91AF5-FC0A-47FA-ADD0-51D7EB0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F10F9-1336-4C50-8013-31013CB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51E9F-CC36-4FC7-995D-1E95363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35762-BE8D-4F17-A058-CCF8DA2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66A43-C9C1-4750-8DF4-31275DEB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44457-41F4-4BC4-A7C6-09CFAAB8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31E64-C65C-41DE-8503-68631109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74F-94D0-427F-A5E0-1457754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54CC7-3689-4E00-A11F-E9E778B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28220-E581-41B3-84FC-5DA3FAA2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7CD1B-2F56-4236-A965-EE73EBDC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D78D6-E13A-4139-99CB-D66E53D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9E48E-A57D-4F7B-8E74-F15157C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E1832-74E9-4BB7-9049-3760143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6D178-56CE-4AF3-8EC4-F7A662B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2E78D-A771-4A66-84CE-4D95260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0384E-6094-4F91-9224-32D8C5E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36268-EAD7-4D5F-842A-994A8A60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CE99-984E-467F-8604-B96C36F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66068-240B-496C-954F-F5839214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23875-72AD-49C8-91CF-0E292C81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E3A1A-E2A0-4888-AC62-E6260173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D86BB-4694-4C9D-AF68-CE61A68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DF471-F0A4-4FF7-A4EC-E1786DF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26361-F85F-46FB-A733-D8E13D1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EE8B2-B41D-4DD4-8DC9-D7AAD57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DA606-D24C-4CD2-BCB0-60AC23D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7B3A7-459E-4B1A-B31F-89D83D6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A4CD7-C9D5-474F-BEEF-4A28DE2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AB8-BA46-42F4-BEA5-D75AB137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BCDE4-B4CA-4D8D-AC6B-9350578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6C5B6-2087-465B-B140-014A09F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6FA83-35F8-4E8C-9C81-1B2BD198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0C3AA-794B-4A35-88C9-3EF6D3E5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B2AA3-F91D-4A4C-8C84-734C5C88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13F3B-9736-4EC7-A6D6-90C9021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F2476-8208-4290-B21A-AB60A400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0B498-6F66-4E68-95B0-924D649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72584-2373-4BAA-8609-9B3A97F8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BC5A3-E9A1-4574-8159-C82A9C6D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43B-B783-4FAB-9DB6-D304175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2E2-153F-4B3B-91CA-87E47FE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6368E-1A79-4772-89A0-C968F80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0CBC5-22A4-42EB-89E3-00B9A62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3E957-516C-48A5-897F-909CD35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41EF6-CE0D-4541-B482-A93F7B8D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2B163-51C2-422D-A6CE-3E8265C0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35684-AAC2-43B8-AFC9-EDD3A60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D615C-C0AA-4135-839E-74DEBB4B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B6A06-8D73-4137-8BD5-518A83CF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45963-E881-47CB-BE6F-F300CD4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2562D-114B-4515-94AA-A9AB68D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CBF-D8A0-4FC0-AD84-C71B4EC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5431D-F48C-406E-A88D-7AF70076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DFB7B-7E58-474B-8F88-9780EDB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7B13A-654B-4720-BD9B-9A23611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7D749-B1FA-49ED-AA55-14CA1D4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1F2DE-C17B-4B5F-BE59-C4BC27C2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D7E33-140D-4126-B307-224F9ED6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D72D3-0A4D-49B4-9E7A-FC81A3A2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B0F05-2033-405D-A3FC-DC4FD7AF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E84F9-0BC1-412D-A142-46FE64B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553F4-35D6-4323-B433-B215F5AD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FCA0-3A0F-427A-953E-EED7FD8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164BF-9CAE-43C1-B401-FA00874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8C75E-B9D8-43E2-9991-50D43F0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AEC24-D748-4A69-8859-C42C802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AC17F-94DF-4F4C-A131-2BEAB6E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91266-0E36-4F26-9B68-BE9A7ED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A04C9-B624-4330-8DA2-131020C9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B29B0-4FD9-496B-AF6C-4EF19648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6B97F-B1ED-402C-8314-F0F90866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C0960-4D3F-46A4-A48A-68418F4F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3E95E-870B-4C24-A3DC-DE6FF684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1EF-9184-4813-B443-9CFA952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7EC54-1426-43B1-BCA8-5D32F36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079F0-48C5-46CA-9401-F52FE70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4E27D-09A8-4DC2-A32D-F228E35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B0DD9-52EF-44C8-8176-975ABFD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F5196-33A2-4457-8B85-6EBC9A2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B0699-7240-416F-9C3B-04AE268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D156C-9EBE-4D58-994A-121D3DC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391DB-6845-4107-B1E5-2DFF72E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8EAB2-8A2C-47D1-A56A-6FAB2385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0A76F-34FE-4158-8A0C-840B74FA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515-0BDF-4F7D-A809-FB7585BD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BEBE7-C319-465D-82F1-37804EC9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3D526-5746-4A43-A032-07A3084F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5532C-51B4-4372-B7C6-C9A01AA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1A06E-736D-43A0-90B9-DFAF74EB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E026B-5CE1-48D1-97BA-C37E01C5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A0B95-3B43-4E15-A9A2-7B24A3F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2E37F-3281-41CE-B966-07016C2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D223E-CEAB-47D1-9552-A831FD1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247FF-783F-4633-844E-68610850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769B7-2BBB-495B-8C6C-062C3C6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C7FC-A360-49F7-912A-86437CA2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D3304-2F2C-4FC7-8046-71C7CCA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2A165-FA14-4F06-9693-6C76121D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4F8A5-ED6B-4DE8-A5E4-5B5009A1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0B1FF-3BCA-40BE-963D-C628B4C5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4CF15-D9DC-4E50-8442-5E7ED380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71DCF-E5E4-4356-A3E2-C42AF554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FF5DB-4175-480C-B151-E1004EB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1C85D-B609-4115-94AE-345279F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02C48-9B05-4795-8DB0-E71793F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D10D3-32C4-4CEA-9B2E-377AE07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91F9-865E-4DE6-BD7C-FD965F5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72025-C597-428E-B831-F2323ECE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AA32F-8EB6-40DF-AB3A-9276DEB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5952B-8F5B-4C29-BE88-9A091B7F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15D2E-47A6-4A44-A692-05D0CC89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08E1B-090B-4BD7-8FDC-D50AA064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380C6-3B89-4E34-AB07-2C74C6D5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89089B-C0A6-4626-9EB5-A3CA627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105AD-8162-4EC3-873A-55515A11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BF5ED7-59C1-4DBA-A713-7168539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6BE99-3940-4F8E-8701-82566377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57A7-983F-4D33-9F0A-B7CBC86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070FA-34CD-41AF-A7DB-6BAB0030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D4CBF-AA6A-4D43-BB3A-B3E95DC7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D65C0-14E5-49B3-8797-C26BA61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D4573-28DC-45ED-B526-FBF9503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F6F26-F3F2-4145-B740-E6685F13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02A1F-5610-49B0-9041-F3D95F76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6F8D7-14E1-40A2-A037-8485828A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7F2C0-D810-4B03-8AA5-0472926C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07DB0-36C1-4D55-8AD5-61C16B8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E2E78-DEC9-4820-93B1-0DBB3D2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2415-E5F9-4355-B591-89468375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D7420A-B28F-4636-AB91-AA94CDE9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89DA03-2268-4C7F-B905-663CFA5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37627-BA47-4299-A308-20420EC0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38F54-DD7C-46DD-A1C3-7B5CF5D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C524E-D15C-45A3-8DDE-0843E5F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2FF069-C493-4F83-A753-10E4345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AC67F5-F685-4D1A-BBCE-1ECEF8B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7BFBCF-B7AE-4B46-83FD-6030F98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F730A-7114-4AB0-AC36-272247D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CE99D6-C7B0-4C3E-BC3E-0AC920F8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B1B4-7600-4ED3-8901-848EE80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DCFDF5-4358-4CE7-A600-4BA32294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8B77F0-218E-49C8-BA4B-3154B37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9900CC-1CAF-4AE7-AE92-EC81DBB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497B97-3F9C-4EF5-8E40-60656251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437A31-2FAE-4F82-8CF8-6C0804E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B7CC51-CA56-4617-B1E9-DD750DF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6295C-0945-4560-8158-187EA23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969F4-8DAA-4D54-BE6A-C705298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FB0A9A-6695-466D-BF59-05599EF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1C0CC-EB36-471D-8B97-B10CB02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915-6663-4DC6-ADB2-ECEF9A7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A798-A8FA-4817-A7A6-91850016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3B76DD-303D-4E5F-80AA-46790463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CA728-DF61-4C92-9D55-8F34E96F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E8F60-D1E8-43BA-8B8B-4211CC1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0E6FCA-8052-4288-8351-320F61F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C60C4-5CF6-4A03-BAAA-69CFCA5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12D35-8FD9-4623-A154-3BD39D47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8394E0-1340-4AF1-8F76-766DA42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C77997-B2A8-4585-9F88-35BFC6F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B91237-1A9F-4B2C-8670-0958CE8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67C37C-FCE4-46A2-B199-3D09184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0F35-71C7-4C17-964A-16DD504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B7546E-A42D-48E1-8393-379618A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8A2FFB-7F60-4F58-8520-7B1C4D79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25F03-33E0-4585-861C-15E37F85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6220BC-25B3-4F8E-A052-862DA246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3B5EF-1A30-403F-A19D-E16B59CD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36F1EC-9F3C-4949-8520-2B2ED6E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1B20B8-593C-43D7-8F97-49930E5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684391-7945-4D40-BCD0-337A868B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B265F5-1A43-49E7-88B2-E23025C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E2CE97-CE96-431F-8C80-B6E5DE9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31A5-AF05-44C5-AAC8-6F1964F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B6534A-1A01-45F4-87CC-0486945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381463-E2E9-44BD-AC97-DFD18CF3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71C9CF-0F67-45E8-8BC9-ADD7BA4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04D845-B727-4E40-A8FC-5A923976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439D80-D89B-4785-8856-06C464BB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A41A84-FEF2-440F-A036-3633F1A2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4C89E3-B09C-44BF-B632-83995C5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6DD5EA-2421-485C-8D25-D2722C50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08F38F-3044-4BC0-9B79-21688825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2BD0FF-1865-45CA-BD36-C83A495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6C72-9881-4AE5-AACE-BB06868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E853A5-12A8-4C96-BF19-3B29524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459E4A-3F29-42C6-BCD3-5C670C4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75CD85-145B-489D-817D-D1C59C9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692753-D25D-4835-A8F0-B380A68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7275AF-D453-4D20-9711-47A7782D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A61E79-9220-461A-ACA4-460753AE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517DA-B993-4A2C-A3DB-4BEEC89C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9988F2-45A6-4742-BBEA-43042325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7E5BC4-0672-4BF2-87D0-2FF4DE6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5E5D62-4723-4055-A8DD-98C7845B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5D0F-47B6-4892-958C-6525C4A2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0F8C14-4C96-49F5-9097-5777C2E5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901408-C576-42D1-B430-0D301CB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6DA726-37C5-499C-AEED-E317C93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8798EC-AE29-4708-8634-63040992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D3884F-347E-48C6-AEFD-0FE1B9B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4EF0B-827A-4BB9-A544-B412C24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215A70-47D9-4B19-AF26-3BB464D9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978A5C-482C-4196-A56F-3B79610C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650FFC-A72A-4B70-A207-2BFC7425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25BB3E-D61A-4264-9131-9D5365C8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70FD-9208-49F2-9AC5-9EB5B3E7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85DDE3-8596-4605-9699-40DB11B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D9EE1A-ED0C-4BE0-B8B3-4E3F0448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CFE481-A67F-4541-965D-B3A3CFB9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BFF18C-38A9-4937-B915-3CBEA72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AB5E75-F39F-4F3C-92EB-4BCF7EC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93EB7-2513-4732-BB86-0A1AD54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BC7287-F1C6-421C-82DE-67566F4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B39DA4-1353-4896-89EE-5F8046C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69F2A8-9C06-41A6-BBA3-BD6ACD5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2B07C5-D81A-487F-9FD2-3E016CF7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D95D-523A-412C-9861-B5EFE229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A9BAC6-39C7-4E0C-A78C-7199ED02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5FDF85-7BBB-4E92-9FC2-116013E4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52C8FB-BC56-4C3F-95A0-678322A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2D9C2F-DCF6-45C0-B172-E38B4EAF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581E3F-8CF0-44E3-8D81-5691EC79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C7ABF4-9891-4B30-870F-413ABBC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B9625C-36B5-43C1-A87E-AB92554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9EA6A7-A737-4415-874F-0B522FC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EF2BF2-83FE-4DEE-A49A-EB86823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4380E6-D72A-4457-8726-6624255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656A-4EE8-4B25-A895-C5468706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E02D4E-87D7-4ECF-8C66-DBBAD86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386B7E-7A55-41E4-8B5C-20314F9B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9D3FA2-B991-4C9C-BC78-E3CBBB88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1654-F66A-4B64-AA9F-BCFBA84E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7843-386F-4068-A46A-70A2C95B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C09-E199-4B57-B94B-B2AA64D3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3B7B-2789-47D6-899A-8919C24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FC29-9107-46B0-AD72-86C041C6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FB94-6664-4FDC-878F-124E28F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8A2B-2E01-42B2-8246-2ACAFDF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62E6-365A-46DA-9702-46A2220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D800-246F-4CD4-BDCC-D73AD5A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9A7C-1DA6-4635-AB9B-9743FCE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61AB0-3FCE-43F2-B203-DE320F8A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1594-1573-4909-AD9F-13D9591C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A29A-D935-44B6-8075-BEE99039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C33-8C17-43D3-AABC-FC91814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4C012-974A-4C2E-9E53-8F9F83F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6333-90D8-479D-9EA4-7431BF4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53C7-85FB-4733-8A12-16C13E4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79DF-2840-4412-82E7-0FF606B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A393-B165-4E0A-950C-3849AEFB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4D68-B421-4C53-8C35-B9E7C69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36C54-C04C-47B3-B371-4BD53ED6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790B-D6F9-4FA7-926E-223FFAF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D482-D047-471D-88D1-6C73935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AF3E-370B-42CC-BCCD-3DB88FAD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568-78BC-4414-A591-828DB00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34AF-8EE1-49C4-92A0-4F534D37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A14-CC51-447D-8DF7-C8DCEAA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3935-F82F-4222-AE58-605398AF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FA42-9494-4880-99E3-F2F1EFFD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57EB-910A-4566-916D-424B3FA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9BE4-3FDE-4670-B1FC-7FF41134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08BA-43EA-4BD0-9515-1D5842A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5369-55D5-4247-BD0B-D18F3BCD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B548-43C2-41E2-A378-6C6F431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ED8-B0AA-4672-9827-F321C0A9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7C36-2F50-4F56-82D4-BF270B8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689F-EF89-414D-96BF-7A75A48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1135-F449-4299-B19A-FBD8AF04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BA638-E64E-419B-AA7B-52FEC09A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3742-B506-48D5-918A-914C6E3F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86B7C-225B-45B9-8B29-331A78FB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EBB8-1B67-443D-BC79-527805C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5D58-3948-42B7-A8C4-F8ADCDD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B9C8A-F0D6-4913-BEAD-4982790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10E6-A240-4882-A1D2-59CC9E9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496-1FE8-4300-B102-8CEC028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2051-4A8B-441C-B0B0-5A4649B3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FE90A-7E76-46DA-BA9D-2BD0F47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7412-5A64-42BA-A118-242F310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F9D4-1E0E-4A3F-A245-C80F3AF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FE821-0F7C-4247-B3A3-C612E49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3331-D0A0-484E-A88D-1FF6BA28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1DC0C-A705-4BF1-8783-F70D17EF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968B-ACA8-4176-B9FF-FF41FE4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B49B-AA80-4FCB-908C-4FE75E6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E0DE-D702-46FA-85C5-4871FAA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D614-6C1D-459C-94F8-E62992E982F9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CCD5-F45D-4D1D-A82E-B8C50F089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4EC-D43B-4918-90FA-027281B89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55E-BC8A-44AF-9EDB-A7485B941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3268-81F6-4851-B03A-9242C721F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447-FF48-45F8-A02A-7B4E06B0B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6B8-91E4-437E-A087-969CF11583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B96-815A-4ED2-A733-1A7BC8BAD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45F-55D8-4223-82DE-03232E347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043-A6C4-40DF-8C20-DC4CC6D2A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FE0-9525-41F6-9FD4-8D2A4C6F0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EA4-EF7B-4652-9C17-8747A2A32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081-095D-48B5-B7E0-7ADA0439BEF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2D1-06FD-4C0F-88ED-6C1ADB9FFE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53D-F77B-4E09-884F-BE441C5BA3E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0E00-23C5-4251-B1FC-F353966C7C6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BFB-995F-4C3F-B279-820F65EE1D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340-EDE8-4718-93F3-A81F65DF032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EDC-5724-4D7E-B82B-5CA55C3FD10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20A-D32E-49C0-8E2C-804F98E000E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A19-7DDD-4106-A6BE-3B6BF44D81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3B8-25B2-4118-86BF-0B2640855BC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ECD-9DBE-482E-91CF-695A799C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5031-7791-4D27-9064-CE49DCBD96B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AC6-E569-4028-9F34-423BF3CAF2E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D37-B2A6-4E2F-81E4-F4078F7E3FE7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BA6-932E-4BE5-9607-37A5A064789F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A39-2AAB-4267-9498-02195EB8A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DEB-CB4F-4AB7-8607-2D3CEF1CA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8A8-3498-4A0B-960E-55556E14B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0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ed Excellence in la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if to the nearest dollar/cen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ed Excellence in la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if to the nearest dollar/cen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sta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olu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m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Topic: </a:t>
            </a: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Sample statistics &amp; expec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alibri"/>
              </a:rPr>
              <a:t>Part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of Achievement Standard 90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Solve straightforward problems involving prob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47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Sigma: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Old version – Ch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ew version – Ch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____random variable;   Values will be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Values will be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  Values will be positive real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  Values will be positive real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3"/>
          <p:cNvSpPr/>
          <p:nvPr/>
        </p:nvSpPr>
        <p:spPr>
          <a:xfrm>
            <a:off x="500040" y="857160"/>
            <a:ext cx="792972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p23 – Ex. 2.1 – Just Q1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9,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and 13 if you’re 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In new Sigma: p121 – Ex. 7.01 – all 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 - </a:t>
            </a: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fill in notes on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8" name=""/>
          <p:cNvGraphicFramePr/>
          <p:nvPr/>
        </p:nvGraphicFramePr>
        <p:xfrm>
          <a:off x="285840" y="17146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9" name="Object 26"/>
              <p:cNvSpPr txBox="1"/>
              <p:nvPr/>
            </p:nvSpPr>
            <p:spPr>
              <a:xfrm>
                <a:off x="642960" y="3143160"/>
                <a:ext cx="500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 – 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the meaning of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discrete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continuous random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ble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probability distribution tabl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to display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how do you calculat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discrete &amp; continuous random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old Sigma (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23 – Ex.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probability distribution tables 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(handout to fill 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285840" y="7858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3" name="Object 26"/>
              <p:cNvSpPr txBox="1"/>
              <p:nvPr/>
            </p:nvSpPr>
            <p:spPr>
              <a:xfrm>
                <a:off x="642960" y="2214720"/>
                <a:ext cx="5000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4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285840" y="421488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6" name="TextBox 15"/>
          <p:cNvSpPr/>
          <p:nvPr/>
        </p:nvSpPr>
        <p:spPr>
          <a:xfrm>
            <a:off x="0" y="2967120"/>
            <a:ext cx="914400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e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 of kids per family in this cla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16"/>
          <p:cNvSpPr/>
          <p:nvPr/>
        </p:nvSpPr>
        <p:spPr>
          <a:xfrm>
            <a:off x="6143760" y="414324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285840" y="7858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0" name="Object 26"/>
              <p:cNvSpPr txBox="1"/>
              <p:nvPr/>
            </p:nvSpPr>
            <p:spPr>
              <a:xfrm>
                <a:off x="642960" y="2214720"/>
                <a:ext cx="5000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2" name=""/>
          <p:cNvGraphicFramePr/>
          <p:nvPr/>
        </p:nvGraphicFramePr>
        <p:xfrm>
          <a:off x="285840" y="421488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3" name="Object 7"/>
              <p:cNvSpPr txBox="1"/>
              <p:nvPr/>
            </p:nvSpPr>
            <p:spPr>
              <a:xfrm>
                <a:off x="6802560" y="6143760"/>
                <a:ext cx="1258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4" name="TextBox 13"/>
          <p:cNvSpPr/>
          <p:nvPr/>
        </p:nvSpPr>
        <p:spPr>
          <a:xfrm>
            <a:off x="6072120" y="407196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sum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 - 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7" name=""/>
          <p:cNvGraphicFramePr/>
          <p:nvPr/>
        </p:nvGraphicFramePr>
        <p:xfrm>
          <a:off x="428760" y="1214280"/>
          <a:ext cx="5500440" cy="130824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8" name="Object 7"/>
              <p:cNvSpPr txBox="1"/>
              <p:nvPr/>
            </p:nvSpPr>
            <p:spPr>
              <a:xfrm>
                <a:off x="6730920" y="3214800"/>
                <a:ext cx="12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9" name="TextBox 11"/>
          <p:cNvSpPr/>
          <p:nvPr/>
        </p:nvSpPr>
        <p:spPr>
          <a:xfrm>
            <a:off x="6072120" y="121428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500040" y="500040"/>
          <a:ext cx="5500800" cy="1308240"/>
        </p:xfrm>
        <a:graphic>
          <a:graphicData uri="http://schemas.openxmlformats.org/drawingml/2006/table">
            <a:tbl>
              <a:tblPr/>
              <a:tblGrid>
                <a:gridCol w="1351080"/>
                <a:gridCol w="527040"/>
                <a:gridCol w="600120"/>
                <a:gridCol w="600120"/>
                <a:gridCol w="601560"/>
                <a:gridCol w="600120"/>
                <a:gridCol w="601560"/>
                <a:gridCol w="619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3" name="Object 2"/>
              <p:cNvSpPr txBox="1"/>
              <p:nvPr/>
            </p:nvSpPr>
            <p:spPr>
              <a:xfrm>
                <a:off x="6588000" y="2571840"/>
                <a:ext cx="12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4" name="TextBox 5"/>
          <p:cNvSpPr/>
          <p:nvPr/>
        </p:nvSpPr>
        <p:spPr>
          <a:xfrm>
            <a:off x="6143760" y="35712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474840" y="11916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560"/>
                <a:gridCol w="61920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8" name="Object 2"/>
              <p:cNvSpPr txBox="1"/>
              <p:nvPr/>
            </p:nvSpPr>
            <p:spPr>
              <a:xfrm>
                <a:off x="6562800" y="2190600"/>
                <a:ext cx="1258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9" name="TextBox 5"/>
          <p:cNvSpPr/>
          <p:nvPr/>
        </p:nvSpPr>
        <p:spPr>
          <a:xfrm>
            <a:off x="6118200" y="4752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Multiply each possible value that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can take by its probability of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250920" y="5643720"/>
            <a:ext cx="8893080" cy="11296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Object 5"/>
              <p:cNvSpPr txBox="1"/>
              <p:nvPr/>
            </p:nvSpPr>
            <p:spPr>
              <a:xfrm>
                <a:off x="4024440" y="5572080"/>
                <a:ext cx="2801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Multiply each possible value that X can take by its probability of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4"/>
          <p:cNvSpPr/>
          <p:nvPr/>
        </p:nvSpPr>
        <p:spPr>
          <a:xfrm>
            <a:off x="357120" y="3714840"/>
            <a:ext cx="7848720" cy="11905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Object 5"/>
              <p:cNvSpPr txBox="1"/>
              <p:nvPr/>
            </p:nvSpPr>
            <p:spPr>
              <a:xfrm>
                <a:off x="3935520" y="3643200"/>
                <a:ext cx="2836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8" name="Rectangle 23"/>
          <p:cNvSpPr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27"/>
          <p:cNvSpPr/>
          <p:nvPr/>
        </p:nvSpPr>
        <p:spPr>
          <a:xfrm>
            <a:off x="0" y="50047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ample:  I pick a member of this class at random.  Use the formula above to find the expected number of children in that person’s family (including the person chosen)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</a:rPr>
              <a:t>Write your answer in your book.  Show working using the formula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Multiply each possible value that X can take by its probability of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"/>
          <p:cNvSpPr/>
          <p:nvPr/>
        </p:nvSpPr>
        <p:spPr>
          <a:xfrm>
            <a:off x="285840" y="2000160"/>
            <a:ext cx="7848360" cy="11905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3" name="Object 5"/>
              <p:cNvSpPr txBox="1"/>
              <p:nvPr/>
            </p:nvSpPr>
            <p:spPr>
              <a:xfrm>
                <a:off x="3863880" y="1928880"/>
                <a:ext cx="28386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4" name="Rectangle 23"/>
          <p:cNvSpPr/>
          <p:nvPr/>
        </p:nvSpPr>
        <p:spPr>
          <a:xfrm>
            <a:off x="0" y="3143160"/>
            <a:ext cx="9144000" cy="1451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7"/>
          <p:cNvSpPr/>
          <p:nvPr/>
        </p:nvSpPr>
        <p:spPr>
          <a:xfrm>
            <a:off x="179280" y="3122640"/>
            <a:ext cx="877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ample:  I pick a member of this class at random.  Use the formula above to find the expected number of children in that person’s family (including the person chosen).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200" spc="-1" strike="noStrike">
                <a:solidFill>
                  <a:srgbClr val="000000"/>
                </a:solidFill>
                <a:latin typeface="Calibri"/>
              </a:rPr>
              <a:t>Write your answer in your book.  Show working using the formula abov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6" name=""/>
          <p:cNvGraphicFramePr/>
          <p:nvPr/>
        </p:nvGraphicFramePr>
        <p:xfrm>
          <a:off x="539640" y="4594320"/>
          <a:ext cx="8209080" cy="13078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1008360"/>
                <a:gridCol w="1008000"/>
                <a:gridCol w="1079280"/>
                <a:gridCol w="1081080"/>
                <a:gridCol w="1079640"/>
              </a:tblGrid>
              <a:tr h="39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7" name="Text Box 4"/>
          <p:cNvSpPr/>
          <p:nvPr/>
        </p:nvSpPr>
        <p:spPr>
          <a:xfrm>
            <a:off x="1692360" y="631800"/>
            <a:ext cx="6048360" cy="1169280"/>
          </a:xfrm>
          <a:prstGeom prst="rect">
            <a:avLst/>
          </a:prstGeom>
          <a:solidFill>
            <a:srgbClr val="ffffcc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Do NuLake pg. 154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15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(Q154</a:t>
            </a:r>
            <a:r>
              <a:rPr b="1" i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156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A (if time) – Expected Valu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expected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expected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gain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losse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when there is a price/reward associated with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a couple of the HW problems – NuLake p154 &amp; 15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through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pected gai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problem on the following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ore practice of basics?  Do Sigma (old) p25 – Ex. 2.2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t it.  Ready to do some more applications problems?  Do Sigma (old) p26 – Ex. 2.3 – complete for H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2"/>
          <p:cNvSpPr/>
          <p:nvPr/>
        </p:nvSpPr>
        <p:spPr>
          <a:xfrm>
            <a:off x="0" y="60948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"/>
          <p:cNvSpPr/>
          <p:nvPr/>
        </p:nvSpPr>
        <p:spPr>
          <a:xfrm>
            <a:off x="0" y="609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6845400" y="70484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384120" y="55692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390600" y="224676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List the four possible outcomes for the buyer of one ti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2"/>
          <p:cNvSpPr/>
          <p:nvPr/>
        </p:nvSpPr>
        <p:spPr>
          <a:xfrm>
            <a:off x="22320" y="65736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"/>
          <p:cNvSpPr/>
          <p:nvPr/>
        </p:nvSpPr>
        <p:spPr>
          <a:xfrm>
            <a:off x="22320" y="6573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4"/>
          <p:cNvSpPr/>
          <p:nvPr/>
        </p:nvSpPr>
        <p:spPr>
          <a:xfrm>
            <a:off x="6867360" y="7095960"/>
            <a:ext cx="2298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06440" y="6048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7"/>
          <p:cNvSpPr/>
          <p:nvPr/>
        </p:nvSpPr>
        <p:spPr>
          <a:xfrm>
            <a:off x="421560" y="2756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8"/>
          <p:cNvSpPr/>
          <p:nvPr/>
        </p:nvSpPr>
        <p:spPr>
          <a:xfrm>
            <a:off x="405000" y="228492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9"/>
          <p:cNvSpPr/>
          <p:nvPr/>
        </p:nvSpPr>
        <p:spPr>
          <a:xfrm>
            <a:off x="421200" y="31071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0"/>
          <p:cNvSpPr/>
          <p:nvPr/>
        </p:nvSpPr>
        <p:spPr>
          <a:xfrm>
            <a:off x="421200" y="34819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1"/>
          <p:cNvSpPr/>
          <p:nvPr/>
        </p:nvSpPr>
        <p:spPr>
          <a:xfrm>
            <a:off x="421920" y="383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2"/>
          <p:cNvSpPr/>
          <p:nvPr/>
        </p:nvSpPr>
        <p:spPr>
          <a:xfrm>
            <a:off x="2074320" y="3096720"/>
            <a:ext cx="62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Write down the amount the buyer wins each c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"/>
          <p:cNvSpPr/>
          <p:nvPr/>
        </p:nvSpPr>
        <p:spPr>
          <a:xfrm>
            <a:off x="7920" y="68256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3"/>
          <p:cNvSpPr/>
          <p:nvPr/>
        </p:nvSpPr>
        <p:spPr>
          <a:xfrm>
            <a:off x="7920" y="682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6853320" y="71215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392040" y="6300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7"/>
          <p:cNvSpPr/>
          <p:nvPr/>
        </p:nvSpPr>
        <p:spPr>
          <a:xfrm>
            <a:off x="407160" y="2781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8"/>
          <p:cNvSpPr/>
          <p:nvPr/>
        </p:nvSpPr>
        <p:spPr>
          <a:xfrm>
            <a:off x="7700400" y="38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0"/>
          <p:cNvSpPr/>
          <p:nvPr/>
        </p:nvSpPr>
        <p:spPr>
          <a:xfrm>
            <a:off x="6087240" y="278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nings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1"/>
          <p:cNvSpPr/>
          <p:nvPr/>
        </p:nvSpPr>
        <p:spPr>
          <a:xfrm>
            <a:off x="7702560" y="2782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2"/>
          <p:cNvSpPr/>
          <p:nvPr/>
        </p:nvSpPr>
        <p:spPr>
          <a:xfrm>
            <a:off x="7701840" y="313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13"/>
          <p:cNvSpPr/>
          <p:nvPr/>
        </p:nvSpPr>
        <p:spPr>
          <a:xfrm>
            <a:off x="7701840" y="349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4"/>
          <p:cNvSpPr/>
          <p:nvPr/>
        </p:nvSpPr>
        <p:spPr>
          <a:xfrm>
            <a:off x="407160" y="3132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15"/>
          <p:cNvSpPr/>
          <p:nvPr/>
        </p:nvSpPr>
        <p:spPr>
          <a:xfrm>
            <a:off x="407160" y="35071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6"/>
          <p:cNvSpPr/>
          <p:nvPr/>
        </p:nvSpPr>
        <p:spPr>
          <a:xfrm>
            <a:off x="407520" y="3861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7"/>
          <p:cNvSpPr/>
          <p:nvPr/>
        </p:nvSpPr>
        <p:spPr>
          <a:xfrm>
            <a:off x="530280" y="438516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xpress this as a probability distribution in a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8"/>
          <p:cNvSpPr/>
          <p:nvPr/>
        </p:nvSpPr>
        <p:spPr>
          <a:xfrm>
            <a:off x="390960" y="231048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3" name=""/>
          <p:cNvGraphicFramePr/>
          <p:nvPr/>
        </p:nvGraphicFramePr>
        <p:xfrm>
          <a:off x="250920" y="4413240"/>
          <a:ext cx="838836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6520"/>
                <a:gridCol w="1677960"/>
                <a:gridCol w="16779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4" name="Rectangle 22"/>
          <p:cNvSpPr/>
          <p:nvPr/>
        </p:nvSpPr>
        <p:spPr>
          <a:xfrm>
            <a:off x="15840" y="65556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15840" y="655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24"/>
          <p:cNvSpPr/>
          <p:nvPr/>
        </p:nvSpPr>
        <p:spPr>
          <a:xfrm>
            <a:off x="6861240" y="70945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25"/>
          <p:cNvSpPr/>
          <p:nvPr/>
        </p:nvSpPr>
        <p:spPr>
          <a:xfrm>
            <a:off x="399960" y="6030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27"/>
          <p:cNvSpPr/>
          <p:nvPr/>
        </p:nvSpPr>
        <p:spPr>
          <a:xfrm>
            <a:off x="415080" y="2754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28"/>
          <p:cNvSpPr/>
          <p:nvPr/>
        </p:nvSpPr>
        <p:spPr>
          <a:xfrm>
            <a:off x="7708320" y="383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0"/>
          <p:cNvSpPr/>
          <p:nvPr/>
        </p:nvSpPr>
        <p:spPr>
          <a:xfrm>
            <a:off x="6088680" y="27475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nings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1"/>
          <p:cNvSpPr/>
          <p:nvPr/>
        </p:nvSpPr>
        <p:spPr>
          <a:xfrm>
            <a:off x="7710480" y="275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2"/>
          <p:cNvSpPr/>
          <p:nvPr/>
        </p:nvSpPr>
        <p:spPr>
          <a:xfrm>
            <a:off x="7709760" y="3105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33"/>
          <p:cNvSpPr/>
          <p:nvPr/>
        </p:nvSpPr>
        <p:spPr>
          <a:xfrm>
            <a:off x="7709760" y="347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34"/>
          <p:cNvSpPr/>
          <p:nvPr/>
        </p:nvSpPr>
        <p:spPr>
          <a:xfrm>
            <a:off x="415080" y="3105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35"/>
          <p:cNvSpPr/>
          <p:nvPr/>
        </p:nvSpPr>
        <p:spPr>
          <a:xfrm>
            <a:off x="415080" y="3480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6"/>
          <p:cNvSpPr/>
          <p:nvPr/>
        </p:nvSpPr>
        <p:spPr>
          <a:xfrm>
            <a:off x="415440" y="3834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Object 37"/>
          <p:cNvGraphicFramePr/>
          <p:nvPr/>
        </p:nvGraphicFramePr>
        <p:xfrm>
          <a:off x="2486160" y="532116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532116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Rectangle 38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39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40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41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3" name="Object 42"/>
          <p:cNvGraphicFramePr/>
          <p:nvPr/>
        </p:nvGraphicFramePr>
        <p:xfrm>
          <a:off x="4076640" y="5321160"/>
          <a:ext cx="6796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4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5321160"/>
                    <a:ext cx="6796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Object 43"/>
          <p:cNvGraphicFramePr/>
          <p:nvPr/>
        </p:nvGraphicFramePr>
        <p:xfrm>
          <a:off x="5629320" y="532116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6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9320" y="532116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7" name="Rectangle 44"/>
          <p:cNvSpPr/>
          <p:nvPr/>
        </p:nvSpPr>
        <p:spPr>
          <a:xfrm>
            <a:off x="398880" y="228348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44"/>
          <p:cNvSpPr/>
          <p:nvPr/>
        </p:nvSpPr>
        <p:spPr>
          <a:xfrm>
            <a:off x="409680" y="6191280"/>
            <a:ext cx="8028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s there 3 winning tickets, the number of losing tickets i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45"/>
          <p:cNvSpPr/>
          <p:nvPr/>
        </p:nvSpPr>
        <p:spPr>
          <a:xfrm>
            <a:off x="7550280" y="6205680"/>
            <a:ext cx="8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1297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46"/>
          <p:cNvSpPr/>
          <p:nvPr/>
        </p:nvSpPr>
        <p:spPr>
          <a:xfrm flipV="1">
            <a:off x="7535880" y="5854680"/>
            <a:ext cx="0" cy="3254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1" name="Object 1"/>
          <p:cNvGraphicFramePr/>
          <p:nvPr/>
        </p:nvGraphicFramePr>
        <p:xfrm>
          <a:off x="7108920" y="524196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2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524196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3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2"/>
          <p:cNvSpPr/>
          <p:nvPr/>
        </p:nvSpPr>
        <p:spPr>
          <a:xfrm>
            <a:off x="0" y="49536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0" y="4953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4"/>
          <p:cNvSpPr/>
          <p:nvPr/>
        </p:nvSpPr>
        <p:spPr>
          <a:xfrm>
            <a:off x="6845400" y="69343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25"/>
          <p:cNvSpPr/>
          <p:nvPr/>
        </p:nvSpPr>
        <p:spPr>
          <a:xfrm>
            <a:off x="384120" y="4428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8" name="Object 26"/>
          <p:cNvGraphicFramePr/>
          <p:nvPr/>
        </p:nvGraphicFramePr>
        <p:xfrm>
          <a:off x="2470320" y="284472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0" name="Rectangle 27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8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9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30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Object 31"/>
          <p:cNvGraphicFramePr/>
          <p:nvPr/>
        </p:nvGraphicFramePr>
        <p:xfrm>
          <a:off x="4060800" y="284472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32"/>
          <p:cNvGraphicFramePr/>
          <p:nvPr/>
        </p:nvGraphicFramePr>
        <p:xfrm>
          <a:off x="5613480" y="284472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7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8" name="Object 33"/>
          <p:cNvGraphicFramePr/>
          <p:nvPr/>
        </p:nvGraphicFramePr>
        <p:xfrm>
          <a:off x="7108920" y="2857680"/>
          <a:ext cx="691920" cy="61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9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857680"/>
                    <a:ext cx="69192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0" name="Text Box 34"/>
          <p:cNvSpPr/>
          <p:nvPr/>
        </p:nvSpPr>
        <p:spPr>
          <a:xfrm>
            <a:off x="514440" y="362736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Write down an expression for the expected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22"/>
          <p:cNvSpPr/>
          <p:nvPr/>
        </p:nvSpPr>
        <p:spPr>
          <a:xfrm>
            <a:off x="0" y="51912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0" y="519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24"/>
          <p:cNvSpPr/>
          <p:nvPr/>
        </p:nvSpPr>
        <p:spPr>
          <a:xfrm>
            <a:off x="6845400" y="6958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25"/>
          <p:cNvSpPr/>
          <p:nvPr/>
        </p:nvSpPr>
        <p:spPr>
          <a:xfrm>
            <a:off x="384120" y="46656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6" name="Object 26"/>
          <p:cNvGraphicFramePr/>
          <p:nvPr/>
        </p:nvGraphicFramePr>
        <p:xfrm>
          <a:off x="2470320" y="271620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Rectangle 27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30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2" name="Object 31"/>
          <p:cNvGraphicFramePr/>
          <p:nvPr/>
        </p:nvGraphicFramePr>
        <p:xfrm>
          <a:off x="4060800" y="271620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3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32"/>
          <p:cNvGraphicFramePr/>
          <p:nvPr/>
        </p:nvGraphicFramePr>
        <p:xfrm>
          <a:off x="5613480" y="271620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5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33"/>
          <p:cNvGraphicFramePr/>
          <p:nvPr/>
        </p:nvGraphicFramePr>
        <p:xfrm>
          <a:off x="7108920" y="272880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7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72880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34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Object 35"/>
          <p:cNvGraphicFramePr/>
          <p:nvPr/>
        </p:nvGraphicFramePr>
        <p:xfrm>
          <a:off x="439560" y="3736800"/>
          <a:ext cx="96552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0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9560" y="3736800"/>
                    <a:ext cx="965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1" name="Text Box 40"/>
          <p:cNvSpPr/>
          <p:nvPr/>
        </p:nvSpPr>
        <p:spPr>
          <a:xfrm>
            <a:off x="260280" y="483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f the lottery is fair the ticket price must be equal to the expected winnings per ticke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241200" y="568656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.e. on average, nobody gains and nobody l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43"/>
          <p:cNvSpPr/>
          <p:nvPr/>
        </p:nvSpPr>
        <p:spPr>
          <a:xfrm>
            <a:off x="2124000" y="1427040"/>
            <a:ext cx="151308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44"/>
          <p:cNvSpPr/>
          <p:nvPr/>
        </p:nvSpPr>
        <p:spPr>
          <a:xfrm>
            <a:off x="3708360" y="1427040"/>
            <a:ext cx="151308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45"/>
          <p:cNvSpPr/>
          <p:nvPr/>
        </p:nvSpPr>
        <p:spPr>
          <a:xfrm>
            <a:off x="5292720" y="1427040"/>
            <a:ext cx="151272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46"/>
          <p:cNvSpPr/>
          <p:nvPr/>
        </p:nvSpPr>
        <p:spPr>
          <a:xfrm>
            <a:off x="6877080" y="1500120"/>
            <a:ext cx="1512720" cy="200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8" name="Text Box 43"/>
          <p:cNvSpPr/>
          <p:nvPr/>
        </p:nvSpPr>
        <p:spPr>
          <a:xfrm>
            <a:off x="347760" y="6143760"/>
            <a:ext cx="5667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tickets should sell for $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3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9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0" name="Rectangle 22"/>
          <p:cNvSpPr/>
          <p:nvPr/>
        </p:nvSpPr>
        <p:spPr>
          <a:xfrm>
            <a:off x="0" y="51912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23"/>
          <p:cNvSpPr/>
          <p:nvPr/>
        </p:nvSpPr>
        <p:spPr>
          <a:xfrm>
            <a:off x="0" y="519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24"/>
          <p:cNvSpPr/>
          <p:nvPr/>
        </p:nvSpPr>
        <p:spPr>
          <a:xfrm>
            <a:off x="6845400" y="6958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25"/>
          <p:cNvSpPr/>
          <p:nvPr/>
        </p:nvSpPr>
        <p:spPr>
          <a:xfrm>
            <a:off x="384120" y="46656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Object 26"/>
          <p:cNvGraphicFramePr/>
          <p:nvPr/>
        </p:nvGraphicFramePr>
        <p:xfrm>
          <a:off x="2470320" y="271620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Rectangle 27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28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29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30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0" name="Object 31"/>
          <p:cNvGraphicFramePr/>
          <p:nvPr/>
        </p:nvGraphicFramePr>
        <p:xfrm>
          <a:off x="4060800" y="271620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Object 32"/>
          <p:cNvGraphicFramePr/>
          <p:nvPr/>
        </p:nvGraphicFramePr>
        <p:xfrm>
          <a:off x="5613480" y="271620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3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4" name="Object 33"/>
          <p:cNvGraphicFramePr/>
          <p:nvPr/>
        </p:nvGraphicFramePr>
        <p:xfrm>
          <a:off x="7108920" y="272880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5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72880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6" name="Rectangle 34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7" name="Object 35"/>
          <p:cNvGraphicFramePr/>
          <p:nvPr/>
        </p:nvGraphicFramePr>
        <p:xfrm>
          <a:off x="439560" y="3736800"/>
          <a:ext cx="96552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8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9560" y="3736800"/>
                    <a:ext cx="965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9" name="Text Box 40"/>
          <p:cNvSpPr/>
          <p:nvPr/>
        </p:nvSpPr>
        <p:spPr>
          <a:xfrm>
            <a:off x="260280" y="483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f the lottery is fair the ticket price must be equal to the expected winnings per ticke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2"/>
          <p:cNvSpPr/>
          <p:nvPr/>
        </p:nvSpPr>
        <p:spPr>
          <a:xfrm>
            <a:off x="241200" y="568656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.e. on average, nobody gains and nobody l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3"/>
          <p:cNvSpPr/>
          <p:nvPr/>
        </p:nvSpPr>
        <p:spPr>
          <a:xfrm>
            <a:off x="347760" y="6143760"/>
            <a:ext cx="5667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tickets should sell for 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29"/>
          <p:cNvSpPr/>
          <p:nvPr/>
        </p:nvSpPr>
        <p:spPr>
          <a:xfrm>
            <a:off x="322200" y="744480"/>
            <a:ext cx="8356680" cy="2073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Comic Sans MS"/>
              </a:rPr>
              <a:t>Need more practice of the basic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(old) – pg. 25 – Ex. 2.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Comic Sans MS"/>
              </a:rPr>
              <a:t>Got it. Now ready to do more applied problems like this one: </a:t>
            </a:r>
            <a:r>
              <a:rPr b="1" lang="en-NZ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pg. 26 – Ex. 2.3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215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2 – Calculate the </a:t>
            </a:r>
            <a:r>
              <a:rPr b="0" i="1" lang="en-NZ" sz="3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from a probability distribution tabl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the expected value of a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how to calculate the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from a probability distribution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a couple of the HW problems – NuLake pg. 154</a:t>
            </a: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56 (focus on application qs as this is the emphasis in NCE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riefly go through how to calculate the expected value of a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of a variable – examples on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how to calculate th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variance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f a random variable (most of less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58</a:t>
            </a: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61 (finish for H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2"/>
          <p:cNvSpPr/>
          <p:nvPr/>
        </p:nvSpPr>
        <p:spPr>
          <a:xfrm>
            <a:off x="2857680" y="5715000"/>
            <a:ext cx="43632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2819520" y="4195800"/>
            <a:ext cx="43632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0"/>
            <a:ext cx="9144000" cy="15494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6"/>
          <p:cNvSpPr/>
          <p:nvPr/>
        </p:nvSpPr>
        <p:spPr>
          <a:xfrm>
            <a:off x="2819520" y="2592360"/>
            <a:ext cx="5364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8"/>
          <p:cNvSpPr/>
          <p:nvPr/>
        </p:nvSpPr>
        <p:spPr>
          <a:xfrm>
            <a:off x="0" y="3614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9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alculate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9"/>
          <p:cNvSpPr/>
          <p:nvPr/>
        </p:nvSpPr>
        <p:spPr>
          <a:xfrm>
            <a:off x="2781000" y="161172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0"/>
          <p:cNvSpPr/>
          <p:nvPr/>
        </p:nvSpPr>
        <p:spPr>
          <a:xfrm>
            <a:off x="369360" y="32598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)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419760" y="1611720"/>
            <a:ext cx="26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2"/>
          <p:cNvSpPr/>
          <p:nvPr/>
        </p:nvSpPr>
        <p:spPr>
          <a:xfrm>
            <a:off x="2540160" y="2110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13"/>
          <p:cNvSpPr/>
          <p:nvPr/>
        </p:nvSpPr>
        <p:spPr>
          <a:xfrm>
            <a:off x="2577600" y="260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4"/>
          <p:cNvSpPr/>
          <p:nvPr/>
        </p:nvSpPr>
        <p:spPr>
          <a:xfrm>
            <a:off x="2647440" y="3259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5"/>
          <p:cNvSpPr/>
          <p:nvPr/>
        </p:nvSpPr>
        <p:spPr>
          <a:xfrm>
            <a:off x="2577960" y="37580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9 –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6"/>
          <p:cNvSpPr/>
          <p:nvPr/>
        </p:nvSpPr>
        <p:spPr>
          <a:xfrm>
            <a:off x="2787120" y="485676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7"/>
          <p:cNvSpPr/>
          <p:nvPr/>
        </p:nvSpPr>
        <p:spPr>
          <a:xfrm>
            <a:off x="2566440" y="585504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8"/>
          <p:cNvSpPr/>
          <p:nvPr/>
        </p:nvSpPr>
        <p:spPr>
          <a:xfrm>
            <a:off x="357480" y="485676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3)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2528640" y="53550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9 +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2577960" y="425664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20"/>
          <p:cNvSpPr/>
          <p:nvPr/>
        </p:nvSpPr>
        <p:spPr>
          <a:xfrm>
            <a:off x="214200" y="6365880"/>
            <a:ext cx="8358480" cy="489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pg. 29 – Ex. 2.4 – </a:t>
            </a: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10 mins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8" name="Object 10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Text Box 12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5" name="Text Box 7"/>
          <p:cNvSpPr/>
          <p:nvPr/>
        </p:nvSpPr>
        <p:spPr>
          <a:xfrm>
            <a:off x="250920" y="5445000"/>
            <a:ext cx="8424720" cy="10807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 </a:t>
            </a:r>
            <a:r>
              <a:rPr b="1" lang="el-GR" sz="4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1" name="Text Box 7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5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4"/>
          <p:cNvSpPr/>
          <p:nvPr/>
        </p:nvSpPr>
        <p:spPr>
          <a:xfrm>
            <a:off x="2000160" y="6399360"/>
            <a:ext cx="2286000" cy="395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5"/>
          <p:cNvSpPr/>
          <p:nvPr/>
        </p:nvSpPr>
        <p:spPr>
          <a:xfrm>
            <a:off x="254520" y="-1800"/>
            <a:ext cx="88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mean, variance and standard deviation for th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bability distribution. Use the formula VAR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µ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r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6"/>
          <p:cNvSpPr/>
          <p:nvPr/>
        </p:nvSpPr>
        <p:spPr>
          <a:xfrm>
            <a:off x="0" y="2313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7"/>
          <p:cNvSpPr/>
          <p:nvPr/>
        </p:nvSpPr>
        <p:spPr>
          <a:xfrm>
            <a:off x="1145880" y="2628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6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8"/>
          <p:cNvSpPr/>
          <p:nvPr/>
        </p:nvSpPr>
        <p:spPr>
          <a:xfrm>
            <a:off x="1157760" y="3256200"/>
            <a:ext cx="79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    +   2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2    +   3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5    +   4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9"/>
          <p:cNvSpPr/>
          <p:nvPr/>
        </p:nvSpPr>
        <p:spPr>
          <a:xfrm>
            <a:off x="1246320" y="357084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8 + 128 + 135 + 5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0"/>
          <p:cNvSpPr/>
          <p:nvPr/>
        </p:nvSpPr>
        <p:spPr>
          <a:xfrm>
            <a:off x="1247400" y="3885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8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1"/>
          <p:cNvSpPr/>
          <p:nvPr/>
        </p:nvSpPr>
        <p:spPr>
          <a:xfrm>
            <a:off x="595440" y="451368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ar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µ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2"/>
          <p:cNvSpPr/>
          <p:nvPr/>
        </p:nvSpPr>
        <p:spPr>
          <a:xfrm>
            <a:off x="1500120" y="49280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841     –  (26.7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1501560" y="528696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28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0" y="59835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5" name="Object 15"/>
          <p:cNvGraphicFramePr/>
          <p:nvPr/>
        </p:nvGraphicFramePr>
        <p:xfrm>
          <a:off x="2000160" y="5929200"/>
          <a:ext cx="10828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929200"/>
                    <a:ext cx="1082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7" name="Rectangle 16"/>
          <p:cNvSpPr/>
          <p:nvPr/>
        </p:nvSpPr>
        <p:spPr>
          <a:xfrm>
            <a:off x="3452760" y="489168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539640" y="1341360"/>
          <a:ext cx="7504200" cy="91440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1920"/>
                <a:gridCol w="15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9" name="Rectangle 37"/>
          <p:cNvSpPr/>
          <p:nvPr/>
        </p:nvSpPr>
        <p:spPr>
          <a:xfrm>
            <a:off x="1028520" y="23133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    +   2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2    +   3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5    +   4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8"/>
          <p:cNvSpPr/>
          <p:nvPr/>
        </p:nvSpPr>
        <p:spPr>
          <a:xfrm>
            <a:off x="414000" y="32565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9"/>
          <p:cNvSpPr/>
          <p:nvPr/>
        </p:nvSpPr>
        <p:spPr>
          <a:xfrm>
            <a:off x="1500120" y="6399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1.32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o 4S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0"/>
          <p:cNvSpPr/>
          <p:nvPr/>
        </p:nvSpPr>
        <p:spPr>
          <a:xfrm>
            <a:off x="6588000" y="231156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1"/>
          <p:cNvSpPr/>
          <p:nvPr/>
        </p:nvSpPr>
        <p:spPr>
          <a:xfrm>
            <a:off x="6516720" y="325440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2"/>
          <p:cNvSpPr/>
          <p:nvPr/>
        </p:nvSpPr>
        <p:spPr>
          <a:xfrm>
            <a:off x="4643280" y="4573800"/>
            <a:ext cx="41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Use VAR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= E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– µ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3"/>
          <p:cNvSpPr/>
          <p:nvPr/>
        </p:nvSpPr>
        <p:spPr>
          <a:xfrm>
            <a:off x="4984920" y="5841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Hence calculate SD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4"/>
          <p:cNvSpPr/>
          <p:nvPr/>
        </p:nvSpPr>
        <p:spPr>
          <a:xfrm>
            <a:off x="6896160" y="640080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5"/>
          <p:cNvSpPr/>
          <p:nvPr/>
        </p:nvSpPr>
        <p:spPr>
          <a:xfrm>
            <a:off x="571680" y="214200"/>
            <a:ext cx="7286400" cy="12452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NuLake pg. 158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161 (Q164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76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46"/>
              <p:cNvSpPr txBox="1"/>
              <p:nvPr/>
            </p:nvSpPr>
            <p:spPr>
              <a:xfrm>
                <a:off x="571680" y="5929200"/>
                <a:ext cx="1206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9" name="Text Box 46"/>
          <p:cNvSpPr/>
          <p:nvPr/>
        </p:nvSpPr>
        <p:spPr>
          <a:xfrm>
            <a:off x="2357280" y="2786040"/>
            <a:ext cx="5870880" cy="76464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26.7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47"/>
          <p:cNvSpPr/>
          <p:nvPr/>
        </p:nvSpPr>
        <p:spPr>
          <a:xfrm>
            <a:off x="428760" y="5786280"/>
            <a:ext cx="6913440" cy="7038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128.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51"/>
          <p:cNvSpPr/>
          <p:nvPr/>
        </p:nvSpPr>
        <p:spPr>
          <a:xfrm>
            <a:off x="3851280" y="5454720"/>
            <a:ext cx="5292720" cy="12891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11.32 (to 4 S.F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3 – Calculate the </a:t>
            </a:r>
            <a:r>
              <a:rPr b="0" i="1" lang="en-NZ" sz="3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from a prob. distn.tabl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250560" y="1844640"/>
            <a:ext cx="889308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 – practice!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et confident at calculating the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from a probability distribution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y Qs from the HW – NuLake – pg. 158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6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other e.g. on board (following slides) for those needing it (others carry 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o Sigma:  pg. 33 (Ex. 2.5) in old, or pg. 135 (Ex. 7.05) in n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UST do Q 1 &amp; 2,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(* 3</a:t>
            </a:r>
            <a:r>
              <a:rPr b="0" i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5 are optional as extension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n on to next exercise (2.6 in old / 7.06 in new): Do all.  Complete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9" name="Text Box 7"/>
          <p:cNvSpPr/>
          <p:nvPr/>
        </p:nvSpPr>
        <p:spPr>
          <a:xfrm>
            <a:off x="250920" y="5445000"/>
            <a:ext cx="8424720" cy="10807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5" name="Text Box 7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53"/>
          <p:cNvSpPr/>
          <p:nvPr/>
        </p:nvSpPr>
        <p:spPr>
          <a:xfrm>
            <a:off x="1571760" y="3643200"/>
            <a:ext cx="72072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52"/>
          <p:cNvSpPr/>
          <p:nvPr/>
        </p:nvSpPr>
        <p:spPr>
          <a:xfrm>
            <a:off x="1860480" y="5504040"/>
            <a:ext cx="122400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4"/>
          <p:cNvSpPr/>
          <p:nvPr/>
        </p:nvSpPr>
        <p:spPr>
          <a:xfrm>
            <a:off x="1928880" y="6462720"/>
            <a:ext cx="178272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5"/>
          <p:cNvSpPr/>
          <p:nvPr/>
        </p:nvSpPr>
        <p:spPr>
          <a:xfrm>
            <a:off x="1088640" y="9000"/>
            <a:ext cx="6293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For the probability distribution table below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1.) Calculate the mean E(X)  =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2.)  Calculat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3.) Calculate  E(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4.)  Explain in your own words why E(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≠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5.) Use the formula VAR(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= E(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– µ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      to calculate the variance &amp; standard deviation of X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6"/>
          <p:cNvSpPr/>
          <p:nvPr/>
        </p:nvSpPr>
        <p:spPr>
          <a:xfrm>
            <a:off x="0" y="317088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7"/>
          <p:cNvSpPr/>
          <p:nvPr/>
        </p:nvSpPr>
        <p:spPr>
          <a:xfrm>
            <a:off x="1173600" y="35625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"/>
          <p:cNvSpPr/>
          <p:nvPr/>
        </p:nvSpPr>
        <p:spPr>
          <a:xfrm>
            <a:off x="1174680" y="40420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     +    7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4     +    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     +   1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10"/>
          <p:cNvSpPr/>
          <p:nvPr/>
        </p:nvSpPr>
        <p:spPr>
          <a:xfrm>
            <a:off x="1219680" y="45007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3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11"/>
          <p:cNvSpPr/>
          <p:nvPr/>
        </p:nvSpPr>
        <p:spPr>
          <a:xfrm>
            <a:off x="604440" y="481248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ar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µ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2"/>
          <p:cNvSpPr/>
          <p:nvPr/>
        </p:nvSpPr>
        <p:spPr>
          <a:xfrm>
            <a:off x="1500120" y="51436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3.4    –    7.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"/>
          <p:cNvSpPr/>
          <p:nvPr/>
        </p:nvSpPr>
        <p:spPr>
          <a:xfrm>
            <a:off x="1500120" y="55029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.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6"/>
          <p:cNvSpPr/>
          <p:nvPr/>
        </p:nvSpPr>
        <p:spPr>
          <a:xfrm>
            <a:off x="3452760" y="52203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1000080" y="2214720"/>
          <a:ext cx="7504200" cy="91440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1920"/>
                <a:gridCol w="15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0" name="Rectangle 37"/>
          <p:cNvSpPr/>
          <p:nvPr/>
        </p:nvSpPr>
        <p:spPr>
          <a:xfrm>
            <a:off x="1091160" y="3143520"/>
            <a:ext cx="61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   +  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4   +  8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   +  1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38"/>
          <p:cNvSpPr/>
          <p:nvPr/>
        </p:nvSpPr>
        <p:spPr>
          <a:xfrm>
            <a:off x="383760" y="404244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39"/>
          <p:cNvSpPr/>
          <p:nvPr/>
        </p:nvSpPr>
        <p:spPr>
          <a:xfrm>
            <a:off x="1643040" y="639972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375 (4 S.F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40"/>
          <p:cNvSpPr/>
          <p:nvPr/>
        </p:nvSpPr>
        <p:spPr>
          <a:xfrm>
            <a:off x="7088040" y="3214800"/>
            <a:ext cx="20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41"/>
          <p:cNvSpPr/>
          <p:nvPr/>
        </p:nvSpPr>
        <p:spPr>
          <a:xfrm>
            <a:off x="357120" y="40719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Now 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42"/>
          <p:cNvSpPr/>
          <p:nvPr/>
        </p:nvSpPr>
        <p:spPr>
          <a:xfrm>
            <a:off x="4643280" y="4872600"/>
            <a:ext cx="4173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Use VAR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= E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–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µ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43"/>
          <p:cNvSpPr/>
          <p:nvPr/>
        </p:nvSpPr>
        <p:spPr>
          <a:xfrm>
            <a:off x="4984920" y="5956920"/>
            <a:ext cx="41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Now calculate </a:t>
            </a:r>
            <a:r>
              <a:rPr b="1" i="1" lang="el-GR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the Standard Devi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44"/>
          <p:cNvSpPr/>
          <p:nvPr/>
        </p:nvSpPr>
        <p:spPr>
          <a:xfrm>
            <a:off x="6896160" y="67294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357120" y="4071960"/>
            <a:ext cx="6913800" cy="76464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1" lang="en-NZ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5.6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9" name="Object 49"/>
              <p:cNvSpPr txBox="1"/>
              <p:nvPr/>
            </p:nvSpPr>
            <p:spPr>
              <a:xfrm>
                <a:off x="0" y="6012000"/>
                <a:ext cx="1976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Object 50"/>
              <p:cNvSpPr txBox="1"/>
              <p:nvPr/>
            </p:nvSpPr>
            <p:spPr>
              <a:xfrm>
                <a:off x="2163600" y="6000840"/>
                <a:ext cx="825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1" name="Text Box 51"/>
          <p:cNvSpPr/>
          <p:nvPr/>
        </p:nvSpPr>
        <p:spPr>
          <a:xfrm>
            <a:off x="3851280" y="5454720"/>
            <a:ext cx="5292720" cy="12891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2.375 (4 S.F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46"/>
          <p:cNvSpPr/>
          <p:nvPr/>
        </p:nvSpPr>
        <p:spPr>
          <a:xfrm>
            <a:off x="2411280" y="3181320"/>
            <a:ext cx="6375600" cy="8254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7.6.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7.6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45"/>
          <p:cNvSpPr/>
          <p:nvPr/>
        </p:nvSpPr>
        <p:spPr>
          <a:xfrm>
            <a:off x="642960" y="214200"/>
            <a:ext cx="8215200" cy="31932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inish NuLake pages 158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161 (ask for help with any you’re stuck on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old) pg. 33 – Ex. 2.5 – JUST Q1 &amp; 2.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(* Q3</a:t>
            </a:r>
            <a:r>
              <a:rPr b="0" i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5 are optional as extension)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n on to Ex. 2.6 (pg. 34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Variance formula proof using Expec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ink between the 2 variance formulas: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hat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eft hand side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=   Right hand side    </a:t>
            </a:r>
            <a:r>
              <a:rPr b="1" lang="en-NZ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4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Object 5"/>
              <p:cNvSpPr txBox="1"/>
              <p:nvPr/>
            </p:nvSpPr>
            <p:spPr>
              <a:xfrm>
                <a:off x="5546880" y="711360"/>
                <a:ext cx="128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Object 7"/>
              <p:cNvSpPr txBox="1"/>
              <p:nvPr/>
            </p:nvSpPr>
            <p:spPr>
              <a:xfrm>
                <a:off x="7143840" y="714240"/>
                <a:ext cx="1809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4"/>
              <p:cNvSpPr txBox="1"/>
              <p:nvPr/>
            </p:nvSpPr>
            <p:spPr>
              <a:xfrm>
                <a:off x="2286000" y="1577880"/>
                <a:ext cx="10461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6"/>
              <p:cNvSpPr txBox="1"/>
              <p:nvPr/>
            </p:nvSpPr>
            <p:spPr>
              <a:xfrm>
                <a:off x="2214720" y="2428920"/>
                <a:ext cx="1876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Object 6"/>
              <p:cNvSpPr txBox="1"/>
              <p:nvPr/>
            </p:nvSpPr>
            <p:spPr>
              <a:xfrm>
                <a:off x="2122560" y="3071880"/>
                <a:ext cx="2714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μ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1" name="Straight Connector 13"/>
          <p:cNvSpPr/>
          <p:nvPr/>
        </p:nvSpPr>
        <p:spPr>
          <a:xfrm>
            <a:off x="0" y="1357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Object 12"/>
              <p:cNvSpPr txBox="1"/>
              <p:nvPr/>
            </p:nvSpPr>
            <p:spPr>
              <a:xfrm>
                <a:off x="2266920" y="3714840"/>
                <a:ext cx="2371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3" name="TextBox 15"/>
          <p:cNvSpPr/>
          <p:nvPr/>
        </p:nvSpPr>
        <p:spPr>
          <a:xfrm>
            <a:off x="4786200" y="3643200"/>
            <a:ext cx="3857760" cy="61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nce E(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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expected value of the mean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the mea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4" name="Object 13"/>
              <p:cNvSpPr txBox="1"/>
              <p:nvPr/>
            </p:nvSpPr>
            <p:spPr>
              <a:xfrm>
                <a:off x="2286000" y="4714920"/>
                <a:ext cx="1900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5" name="TextBox 17"/>
          <p:cNvSpPr/>
          <p:nvPr/>
        </p:nvSpPr>
        <p:spPr>
          <a:xfrm>
            <a:off x="4572000" y="4714920"/>
            <a:ext cx="19288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nce E(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Object 14"/>
              <p:cNvSpPr txBox="1"/>
              <p:nvPr/>
            </p:nvSpPr>
            <p:spPr>
              <a:xfrm>
                <a:off x="2357280" y="5572080"/>
                <a:ext cx="125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4 – Variance of a </a:t>
            </a:r>
            <a:r>
              <a:rPr b="0" i="1" lang="en-NZ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 of 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variance (and standard deviation) of a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&amp;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64 &amp; 1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36: Ex. 2.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metimes we deal with random variables whose behaviour is modelled by a linea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(lik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y  = mx +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s mean is given by     E(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   =   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metimes we deal with random variables whose behaviour is modelled by a linea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s mean is given by     E(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   =   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variance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Var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d. deviation,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4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 baseline="-25000">
                <a:solidFill>
                  <a:srgbClr val="0000ff"/>
                </a:solidFill>
                <a:latin typeface="Comic Sans MS"/>
              </a:rPr>
              <a:t>+5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Object 4"/>
              <p:cNvSpPr txBox="1"/>
              <p:nvPr/>
            </p:nvSpPr>
            <p:spPr>
              <a:xfrm>
                <a:off x="5778360" y="6249960"/>
                <a:ext cx="1659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4" name="Text Box 5"/>
          <p:cNvSpPr/>
          <p:nvPr/>
        </p:nvSpPr>
        <p:spPr>
          <a:xfrm>
            <a:off x="5796000" y="5734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en-NZ" sz="2400" spc="-1" strike="noStrike" baseline="30000">
                <a:solidFill>
                  <a:srgbClr val="ff33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ts mean is given b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E(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+ 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)   =  </a:t>
            </a:r>
            <a:r>
              <a:rPr b="0" lang="en-NZ" sz="18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s variance,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   =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td. deviation,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800" spc="-1" strike="noStrike" baseline="-25000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Object 4"/>
              <p:cNvSpPr txBox="1"/>
              <p:nvPr/>
            </p:nvSpPr>
            <p:spPr>
              <a:xfrm>
                <a:off x="4830840" y="2421000"/>
                <a:ext cx="1280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8" name="Text Box 5"/>
          <p:cNvSpPr/>
          <p:nvPr/>
        </p:nvSpPr>
        <p:spPr>
          <a:xfrm>
            <a:off x="4643280" y="20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NZ" sz="1800" spc="-1" strike="noStrike" baseline="30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12"/>
          <p:cNvSpPr/>
          <p:nvPr/>
        </p:nvSpPr>
        <p:spPr>
          <a:xfrm>
            <a:off x="3492360" y="3716280"/>
            <a:ext cx="2376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13"/>
          <p:cNvSpPr/>
          <p:nvPr/>
        </p:nvSpPr>
        <p:spPr>
          <a:xfrm>
            <a:off x="611280" y="45813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4"/>
          <p:cNvSpPr/>
          <p:nvPr/>
        </p:nvSpPr>
        <p:spPr>
          <a:xfrm>
            <a:off x="611280" y="5373720"/>
            <a:ext cx="820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5"/>
          <p:cNvSpPr/>
          <p:nvPr/>
        </p:nvSpPr>
        <p:spPr>
          <a:xfrm>
            <a:off x="611280" y="61228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Object 9"/>
              <p:cNvSpPr txBox="1"/>
              <p:nvPr/>
            </p:nvSpPr>
            <p:spPr>
              <a:xfrm>
                <a:off x="6062760" y="62085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-360" y="590040"/>
            <a:ext cx="889308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12"/>
          <p:cNvSpPr/>
          <p:nvPr/>
        </p:nvSpPr>
        <p:spPr>
          <a:xfrm>
            <a:off x="3241800" y="130968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13"/>
          <p:cNvSpPr/>
          <p:nvPr/>
        </p:nvSpPr>
        <p:spPr>
          <a:xfrm>
            <a:off x="360360" y="21747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14"/>
          <p:cNvSpPr/>
          <p:nvPr/>
        </p:nvSpPr>
        <p:spPr>
          <a:xfrm>
            <a:off x="360360" y="29671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"/>
          <p:cNvSpPr/>
          <p:nvPr/>
        </p:nvSpPr>
        <p:spPr>
          <a:xfrm>
            <a:off x="360360" y="371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Object 9"/>
              <p:cNvSpPr txBox="1"/>
              <p:nvPr/>
            </p:nvSpPr>
            <p:spPr>
              <a:xfrm>
                <a:off x="5811840" y="38019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1" name="Rectangle 5"/>
          <p:cNvSpPr/>
          <p:nvPr/>
        </p:nvSpPr>
        <p:spPr>
          <a:xfrm>
            <a:off x="4680" y="4645080"/>
            <a:ext cx="9144000" cy="1879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7"/>
          <p:cNvSpPr/>
          <p:nvPr/>
        </p:nvSpPr>
        <p:spPr>
          <a:xfrm>
            <a:off x="-28440" y="4654080"/>
            <a:ext cx="917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-360" y="590040"/>
            <a:ext cx="889308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3241800" y="130968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360360" y="21747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360360" y="29671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5"/>
          <p:cNvSpPr/>
          <p:nvPr/>
        </p:nvSpPr>
        <p:spPr>
          <a:xfrm>
            <a:off x="360360" y="371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Object 9"/>
              <p:cNvSpPr txBox="1"/>
              <p:nvPr/>
            </p:nvSpPr>
            <p:spPr>
              <a:xfrm>
                <a:off x="5811840" y="38019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10" name="Rectangle 5"/>
          <p:cNvSpPr/>
          <p:nvPr/>
        </p:nvSpPr>
        <p:spPr>
          <a:xfrm>
            <a:off x="4680" y="4645080"/>
            <a:ext cx="9144000" cy="1879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7"/>
          <p:cNvSpPr/>
          <p:nvPr/>
        </p:nvSpPr>
        <p:spPr>
          <a:xfrm>
            <a:off x="-28440" y="4654080"/>
            <a:ext cx="917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5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7"/>
          <p:cNvSpPr/>
          <p:nvPr/>
        </p:nvSpPr>
        <p:spPr>
          <a:xfrm>
            <a:off x="-12600" y="417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26"/>
          <p:cNvSpPr/>
          <p:nvPr/>
        </p:nvSpPr>
        <p:spPr>
          <a:xfrm>
            <a:off x="4932360" y="5110200"/>
            <a:ext cx="8636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2"/>
          <p:cNvSpPr/>
          <p:nvPr/>
        </p:nvSpPr>
        <p:spPr>
          <a:xfrm>
            <a:off x="4643280" y="6334200"/>
            <a:ext cx="86364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3"/>
          <p:cNvSpPr/>
          <p:nvPr/>
        </p:nvSpPr>
        <p:spPr>
          <a:xfrm>
            <a:off x="3635280" y="3957480"/>
            <a:ext cx="6494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4"/>
          <p:cNvSpPr/>
          <p:nvPr/>
        </p:nvSpPr>
        <p:spPr>
          <a:xfrm>
            <a:off x="-12600" y="98280"/>
            <a:ext cx="9144000" cy="1940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7"/>
          <p:cNvSpPr/>
          <p:nvPr/>
        </p:nvSpPr>
        <p:spPr>
          <a:xfrm>
            <a:off x="6845400" y="6607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8"/>
          <p:cNvSpPr/>
          <p:nvPr/>
        </p:nvSpPr>
        <p:spPr>
          <a:xfrm>
            <a:off x="-12600" y="1065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"/>
          <p:cNvSpPr/>
          <p:nvPr/>
        </p:nvSpPr>
        <p:spPr>
          <a:xfrm>
            <a:off x="437040" y="202572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: Distance for a j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: Price of a j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2"/>
          <p:cNvSpPr/>
          <p:nvPr/>
        </p:nvSpPr>
        <p:spPr>
          <a:xfrm>
            <a:off x="477360" y="3258720"/>
            <a:ext cx="27471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E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3"/>
          <p:cNvSpPr/>
          <p:nvPr/>
        </p:nvSpPr>
        <p:spPr>
          <a:xfrm>
            <a:off x="3348720" y="3380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 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4"/>
          <p:cNvSpPr/>
          <p:nvPr/>
        </p:nvSpPr>
        <p:spPr>
          <a:xfrm>
            <a:off x="3353040" y="39564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16"/>
          <p:cNvSpPr/>
          <p:nvPr/>
        </p:nvSpPr>
        <p:spPr>
          <a:xfrm>
            <a:off x="4284720" y="63331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18"/>
          <p:cNvSpPr/>
          <p:nvPr/>
        </p:nvSpPr>
        <p:spPr>
          <a:xfrm>
            <a:off x="5348160" y="3165480"/>
            <a:ext cx="3795840" cy="7038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price charged for a job is $2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7" name="Object 20"/>
              <p:cNvSpPr txBox="1"/>
              <p:nvPr/>
            </p:nvSpPr>
            <p:spPr>
              <a:xfrm>
                <a:off x="4643280" y="5757840"/>
                <a:ext cx="1125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28" name="Rectangle 21"/>
          <p:cNvSpPr/>
          <p:nvPr/>
        </p:nvSpPr>
        <p:spPr>
          <a:xfrm>
            <a:off x="451800" y="283104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n  Y  =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22"/>
          <p:cNvSpPr/>
          <p:nvPr/>
        </p:nvSpPr>
        <p:spPr>
          <a:xfrm>
            <a:off x="468360" y="4684320"/>
            <a:ext cx="4895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ar(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 Var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3"/>
          <p:cNvSpPr/>
          <p:nvPr/>
        </p:nvSpPr>
        <p:spPr>
          <a:xfrm>
            <a:off x="4829760" y="474876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.2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24"/>
          <p:cNvSpPr/>
          <p:nvPr/>
        </p:nvSpPr>
        <p:spPr>
          <a:xfrm>
            <a:off x="4356000" y="51804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6.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25"/>
          <p:cNvSpPr/>
          <p:nvPr/>
        </p:nvSpPr>
        <p:spPr>
          <a:xfrm>
            <a:off x="5950080" y="5184720"/>
            <a:ext cx="3168360" cy="152676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 the random variable, Y (price charged) has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 of 56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a std. deviation of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$7.5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27"/>
          <p:cNvSpPr/>
          <p:nvPr/>
        </p:nvSpPr>
        <p:spPr>
          <a:xfrm>
            <a:off x="3564000" y="5736960"/>
            <a:ext cx="1081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28"/>
          <p:cNvSpPr/>
          <p:nvPr/>
        </p:nvSpPr>
        <p:spPr>
          <a:xfrm>
            <a:off x="0" y="5203800"/>
            <a:ext cx="3564000" cy="161856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g. 164-16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n Sigma (old) – pg. 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urther extens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gma (old): Ex. 2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S 5 &amp; 6 – Sums &amp; differences of 2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the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of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the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etween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arm-up quiz  (re-cap from last lesson – function of  a random variab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xamples &amp;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68 (just Q187 &amp; 1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hen 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1: Ex. 2.9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(skip Q2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2 &amp; 43: Ex. 2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tension:  NuLake p169, 170:  Questions 189-194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4"/>
          <p:cNvSpPr/>
          <p:nvPr/>
        </p:nvSpPr>
        <p:spPr>
          <a:xfrm>
            <a:off x="0" y="4500720"/>
            <a:ext cx="9144000" cy="235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8"/>
          <p:cNvSpPr/>
          <p:nvPr/>
        </p:nvSpPr>
        <p:spPr>
          <a:xfrm>
            <a:off x="411120" y="4644000"/>
            <a:ext cx="87328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23"/>
          <p:cNvSpPr/>
          <p:nvPr/>
        </p:nvSpPr>
        <p:spPr>
          <a:xfrm>
            <a:off x="250920" y="333360"/>
            <a:ext cx="88930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24"/>
          <p:cNvSpPr/>
          <p:nvPr/>
        </p:nvSpPr>
        <p:spPr>
          <a:xfrm>
            <a:off x="3276720" y="90792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 Box 25"/>
          <p:cNvSpPr/>
          <p:nvPr/>
        </p:nvSpPr>
        <p:spPr>
          <a:xfrm>
            <a:off x="395280" y="1773360"/>
            <a:ext cx="81057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26"/>
          <p:cNvSpPr/>
          <p:nvPr/>
        </p:nvSpPr>
        <p:spPr>
          <a:xfrm>
            <a:off x="395280" y="256536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27"/>
          <p:cNvSpPr/>
          <p:nvPr/>
        </p:nvSpPr>
        <p:spPr>
          <a:xfrm>
            <a:off x="395280" y="33148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5" name="Object 28"/>
              <p:cNvSpPr txBox="1"/>
              <p:nvPr/>
            </p:nvSpPr>
            <p:spPr>
              <a:xfrm>
                <a:off x="5940360" y="3400560"/>
                <a:ext cx="2158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2"/>
          <p:cNvSpPr/>
          <p:nvPr/>
        </p:nvSpPr>
        <p:spPr>
          <a:xfrm>
            <a:off x="3492360" y="587700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3635280" y="4437000"/>
            <a:ext cx="6494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6"/>
          <p:cNvSpPr/>
          <p:nvPr/>
        </p:nvSpPr>
        <p:spPr>
          <a:xfrm>
            <a:off x="3375000" y="2533680"/>
            <a:ext cx="6238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8"/>
          <p:cNvSpPr/>
          <p:nvPr/>
        </p:nvSpPr>
        <p:spPr>
          <a:xfrm>
            <a:off x="468360" y="-16560"/>
            <a:ext cx="867564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9"/>
          <p:cNvSpPr/>
          <p:nvPr/>
        </p:nvSpPr>
        <p:spPr>
          <a:xfrm>
            <a:off x="250920" y="1536480"/>
            <a:ext cx="3203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 E(6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0"/>
          <p:cNvSpPr/>
          <p:nvPr/>
        </p:nvSpPr>
        <p:spPr>
          <a:xfrm>
            <a:off x="3051000" y="1583280"/>
            <a:ext cx="17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1"/>
          <p:cNvSpPr/>
          <p:nvPr/>
        </p:nvSpPr>
        <p:spPr>
          <a:xfrm>
            <a:off x="3051360" y="2068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2"/>
          <p:cNvSpPr/>
          <p:nvPr/>
        </p:nvSpPr>
        <p:spPr>
          <a:xfrm>
            <a:off x="3088800" y="255636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3"/>
          <p:cNvSpPr/>
          <p:nvPr/>
        </p:nvSpPr>
        <p:spPr>
          <a:xfrm>
            <a:off x="0" y="3479400"/>
            <a:ext cx="34369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6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4"/>
          <p:cNvSpPr/>
          <p:nvPr/>
        </p:nvSpPr>
        <p:spPr>
          <a:xfrm>
            <a:off x="3307320" y="35722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5"/>
          <p:cNvSpPr/>
          <p:nvPr/>
        </p:nvSpPr>
        <p:spPr>
          <a:xfrm>
            <a:off x="3311640" y="400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6"/>
          <p:cNvSpPr/>
          <p:nvPr/>
        </p:nvSpPr>
        <p:spPr>
          <a:xfrm>
            <a:off x="3349080" y="44359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7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17"/>
          <p:cNvSpPr/>
          <p:nvPr/>
        </p:nvSpPr>
        <p:spPr>
          <a:xfrm>
            <a:off x="2411280" y="5495760"/>
            <a:ext cx="8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19"/>
          <p:cNvSpPr/>
          <p:nvPr/>
        </p:nvSpPr>
        <p:spPr>
          <a:xfrm>
            <a:off x="284328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20"/>
          <p:cNvSpPr/>
          <p:nvPr/>
        </p:nvSpPr>
        <p:spPr>
          <a:xfrm>
            <a:off x="5348160" y="158436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imply multiply E(X) by 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21"/>
          <p:cNvSpPr/>
          <p:nvPr/>
        </p:nvSpPr>
        <p:spPr>
          <a:xfrm>
            <a:off x="5348160" y="356220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the coefficient of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22"/>
          <p:cNvSpPr/>
          <p:nvPr/>
        </p:nvSpPr>
        <p:spPr>
          <a:xfrm>
            <a:off x="5219640" y="549108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root of th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23"/>
              <p:cNvSpPr txBox="1"/>
              <p:nvPr/>
            </p:nvSpPr>
            <p:spPr>
              <a:xfrm>
                <a:off x="3276720" y="5445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4211640" y="595008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4067280" y="4437000"/>
            <a:ext cx="6490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6"/>
          <p:cNvSpPr/>
          <p:nvPr/>
        </p:nvSpPr>
        <p:spPr>
          <a:xfrm>
            <a:off x="3375000" y="2533680"/>
            <a:ext cx="6238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8"/>
          <p:cNvSpPr/>
          <p:nvPr/>
        </p:nvSpPr>
        <p:spPr>
          <a:xfrm>
            <a:off x="468360" y="15480"/>
            <a:ext cx="8675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9"/>
          <p:cNvSpPr/>
          <p:nvPr/>
        </p:nvSpPr>
        <p:spPr>
          <a:xfrm>
            <a:off x="0" y="1536480"/>
            <a:ext cx="3348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E(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4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0"/>
          <p:cNvSpPr/>
          <p:nvPr/>
        </p:nvSpPr>
        <p:spPr>
          <a:xfrm>
            <a:off x="3050640" y="158328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- 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1"/>
          <p:cNvSpPr/>
          <p:nvPr/>
        </p:nvSpPr>
        <p:spPr>
          <a:xfrm>
            <a:off x="3087720" y="206892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  - 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"/>
          <p:cNvSpPr/>
          <p:nvPr/>
        </p:nvSpPr>
        <p:spPr>
          <a:xfrm>
            <a:off x="3088800" y="255636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3"/>
          <p:cNvSpPr/>
          <p:nvPr/>
        </p:nvSpPr>
        <p:spPr>
          <a:xfrm>
            <a:off x="0" y="3449520"/>
            <a:ext cx="3924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14"/>
          <p:cNvSpPr/>
          <p:nvPr/>
        </p:nvSpPr>
        <p:spPr>
          <a:xfrm>
            <a:off x="3667680" y="34992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3672000" y="39326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9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6"/>
          <p:cNvSpPr/>
          <p:nvPr/>
        </p:nvSpPr>
        <p:spPr>
          <a:xfrm>
            <a:off x="3709440" y="450756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17"/>
          <p:cNvSpPr/>
          <p:nvPr/>
        </p:nvSpPr>
        <p:spPr>
          <a:xfrm>
            <a:off x="3213720" y="5495760"/>
            <a:ext cx="825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18"/>
          <p:cNvSpPr/>
          <p:nvPr/>
        </p:nvSpPr>
        <p:spPr>
          <a:xfrm>
            <a:off x="356400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19"/>
          <p:cNvSpPr/>
          <p:nvPr/>
        </p:nvSpPr>
        <p:spPr>
          <a:xfrm>
            <a:off x="5348160" y="1584360"/>
            <a:ext cx="37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Multiply E(X) by 3 and subtract 4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20"/>
          <p:cNvSpPr/>
          <p:nvPr/>
        </p:nvSpPr>
        <p:spPr>
          <a:xfrm>
            <a:off x="6156360" y="335772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quare the coefficient of X.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IGNORE THE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21"/>
          <p:cNvSpPr/>
          <p:nvPr/>
        </p:nvSpPr>
        <p:spPr>
          <a:xfrm>
            <a:off x="5219640" y="549108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root of th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Object 22"/>
              <p:cNvSpPr txBox="1"/>
              <p:nvPr/>
            </p:nvSpPr>
            <p:spPr>
              <a:xfrm>
                <a:off x="3995640" y="5445000"/>
                <a:ext cx="865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2"/>
          <p:cNvSpPr/>
          <p:nvPr/>
        </p:nvSpPr>
        <p:spPr>
          <a:xfrm>
            <a:off x="3492360" y="587700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3635280" y="4005360"/>
            <a:ext cx="64944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5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6"/>
          <p:cNvSpPr/>
          <p:nvPr/>
        </p:nvSpPr>
        <p:spPr>
          <a:xfrm>
            <a:off x="3348000" y="2060640"/>
            <a:ext cx="6238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8"/>
          <p:cNvSpPr/>
          <p:nvPr/>
        </p:nvSpPr>
        <p:spPr>
          <a:xfrm>
            <a:off x="468360" y="15480"/>
            <a:ext cx="8675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9"/>
          <p:cNvSpPr/>
          <p:nvPr/>
        </p:nvSpPr>
        <p:spPr>
          <a:xfrm>
            <a:off x="250920" y="1536480"/>
            <a:ext cx="284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 E(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10"/>
          <p:cNvSpPr/>
          <p:nvPr/>
        </p:nvSpPr>
        <p:spPr>
          <a:xfrm>
            <a:off x="3050640" y="15832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-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2"/>
          <p:cNvSpPr/>
          <p:nvPr/>
        </p:nvSpPr>
        <p:spPr>
          <a:xfrm>
            <a:off x="3060360" y="213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3"/>
          <p:cNvSpPr/>
          <p:nvPr/>
        </p:nvSpPr>
        <p:spPr>
          <a:xfrm>
            <a:off x="0" y="3479400"/>
            <a:ext cx="3635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-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Rectangle 14"/>
          <p:cNvSpPr/>
          <p:nvPr/>
        </p:nvSpPr>
        <p:spPr>
          <a:xfrm>
            <a:off x="3335400" y="35722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5"/>
          <p:cNvSpPr/>
          <p:nvPr/>
        </p:nvSpPr>
        <p:spPr>
          <a:xfrm>
            <a:off x="3349080" y="400428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17"/>
          <p:cNvSpPr/>
          <p:nvPr/>
        </p:nvSpPr>
        <p:spPr>
          <a:xfrm>
            <a:off x="2411280" y="5495760"/>
            <a:ext cx="8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8"/>
          <p:cNvSpPr/>
          <p:nvPr/>
        </p:nvSpPr>
        <p:spPr>
          <a:xfrm>
            <a:off x="284328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19"/>
          <p:cNvSpPr/>
          <p:nvPr/>
        </p:nvSpPr>
        <p:spPr>
          <a:xfrm>
            <a:off x="5348160" y="158436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imply multiply E(X) by -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20"/>
          <p:cNvSpPr/>
          <p:nvPr/>
        </p:nvSpPr>
        <p:spPr>
          <a:xfrm>
            <a:off x="5348160" y="3562200"/>
            <a:ext cx="37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his has no effect on the SPREAD of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21"/>
          <p:cNvSpPr/>
          <p:nvPr/>
        </p:nvSpPr>
        <p:spPr>
          <a:xfrm>
            <a:off x="5219640" y="549108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 of course the standard deviation is also unchang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4" name="Object 22"/>
              <p:cNvSpPr txBox="1"/>
              <p:nvPr/>
            </p:nvSpPr>
            <p:spPr>
              <a:xfrm>
                <a:off x="3362400" y="5445000"/>
                <a:ext cx="69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2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5"/>
          <p:cNvSpPr/>
          <p:nvPr/>
        </p:nvSpPr>
        <p:spPr>
          <a:xfrm>
            <a:off x="179280" y="470628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6"/>
          <p:cNvSpPr/>
          <p:nvPr/>
        </p:nvSpPr>
        <p:spPr>
          <a:xfrm>
            <a:off x="250920" y="189000"/>
            <a:ext cx="889308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SUMS OF 2 </a:t>
            </a:r>
            <a:r>
              <a:rPr b="1" lang="en-NZ" sz="3200" spc="-1" strike="noStrike" u="sng">
                <a:solidFill>
                  <a:srgbClr val="ff3300"/>
                </a:solidFill>
                <a:uFillTx/>
                <a:latin typeface="Comic Sans MS"/>
              </a:rPr>
              <a:t>INDEPENDENT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2000160" y="1197000"/>
            <a:ext cx="48578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8"/>
          <p:cNvSpPr/>
          <p:nvPr/>
        </p:nvSpPr>
        <p:spPr>
          <a:xfrm>
            <a:off x="1332000" y="21337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9"/>
          <p:cNvSpPr/>
          <p:nvPr/>
        </p:nvSpPr>
        <p:spPr>
          <a:xfrm>
            <a:off x="395280" y="289728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X + Y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10"/>
          <p:cNvSpPr/>
          <p:nvPr/>
        </p:nvSpPr>
        <p:spPr>
          <a:xfrm>
            <a:off x="395280" y="3646440"/>
            <a:ext cx="8532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+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3" name="Object 11"/>
              <p:cNvSpPr txBox="1"/>
              <p:nvPr/>
            </p:nvSpPr>
            <p:spPr>
              <a:xfrm>
                <a:off x="5364000" y="3789360"/>
                <a:ext cx="334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2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4"/>
          <p:cNvSpPr/>
          <p:nvPr/>
        </p:nvSpPr>
        <p:spPr>
          <a:xfrm>
            <a:off x="250920" y="3470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11"/>
          <p:cNvSpPr/>
          <p:nvPr/>
        </p:nvSpPr>
        <p:spPr>
          <a:xfrm>
            <a:off x="170640" y="2336400"/>
            <a:ext cx="47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 Combined Weight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bo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gir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25"/>
          <p:cNvSpPr/>
          <p:nvPr/>
        </p:nvSpPr>
        <p:spPr>
          <a:xfrm>
            <a:off x="5403960" y="2730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27"/>
          <p:cNvSpPr/>
          <p:nvPr/>
        </p:nvSpPr>
        <p:spPr>
          <a:xfrm>
            <a:off x="0" y="3482640"/>
            <a:ext cx="525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(T) =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1"/>
              <p:cNvSpPr txBox="1"/>
              <p:nvPr/>
            </p:nvSpPr>
            <p:spPr>
              <a:xfrm>
                <a:off x="2568600" y="4022640"/>
                <a:ext cx="1363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Object 2"/>
              <p:cNvSpPr txBox="1"/>
              <p:nvPr/>
            </p:nvSpPr>
            <p:spPr>
              <a:xfrm>
                <a:off x="2627280" y="4525920"/>
                <a:ext cx="1219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2" name="Straight Connector 4"/>
          <p:cNvSpPr/>
          <p:nvPr/>
        </p:nvSpPr>
        <p:spPr>
          <a:xfrm>
            <a:off x="0" y="3532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traight Connector 6"/>
          <p:cNvSpPr/>
          <p:nvPr/>
        </p:nvSpPr>
        <p:spPr>
          <a:xfrm>
            <a:off x="4462560" y="3503520"/>
            <a:ext cx="0" cy="334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27"/>
          <p:cNvSpPr/>
          <p:nvPr/>
        </p:nvSpPr>
        <p:spPr>
          <a:xfrm>
            <a:off x="4462560" y="3531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T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=   Var(X)+Var(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27"/>
          <p:cNvSpPr/>
          <p:nvPr/>
        </p:nvSpPr>
        <p:spPr>
          <a:xfrm>
            <a:off x="4560840" y="40543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2"/>
          <p:cNvSpPr/>
          <p:nvPr/>
        </p:nvSpPr>
        <p:spPr>
          <a:xfrm>
            <a:off x="4462560" y="4770000"/>
            <a:ext cx="4778280" cy="119124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ways work through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arianc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rather than the standard devi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 square the boys’ and girls’ standard deviations to get their varian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Down Arrow 7"/>
          <p:cNvSpPr/>
          <p:nvPr/>
        </p:nvSpPr>
        <p:spPr>
          <a:xfrm rot="10800000">
            <a:off x="6600960" y="4494240"/>
            <a:ext cx="503280" cy="271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2"/>
          <p:cNvSpPr/>
          <p:nvPr/>
        </p:nvSpPr>
        <p:spPr>
          <a:xfrm>
            <a:off x="336600" y="6056640"/>
            <a:ext cx="8673840" cy="7642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ssumption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That the marks for the 2 tests are independe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n we ca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he varianc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2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"/>
          <p:cNvSpPr/>
          <p:nvPr/>
        </p:nvSpPr>
        <p:spPr>
          <a:xfrm>
            <a:off x="250920" y="3470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11"/>
          <p:cNvSpPr/>
          <p:nvPr/>
        </p:nvSpPr>
        <p:spPr>
          <a:xfrm>
            <a:off x="170640" y="2336400"/>
            <a:ext cx="47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 Combined Weight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bo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gir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25"/>
          <p:cNvSpPr/>
          <p:nvPr/>
        </p:nvSpPr>
        <p:spPr>
          <a:xfrm>
            <a:off x="5403960" y="2730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27"/>
          <p:cNvSpPr/>
          <p:nvPr/>
        </p:nvSpPr>
        <p:spPr>
          <a:xfrm>
            <a:off x="0" y="3482640"/>
            <a:ext cx="525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(T) =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Object 1"/>
              <p:cNvSpPr txBox="1"/>
              <p:nvPr/>
            </p:nvSpPr>
            <p:spPr>
              <a:xfrm>
                <a:off x="2568600" y="4022640"/>
                <a:ext cx="1363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2"/>
              <p:cNvSpPr txBox="1"/>
              <p:nvPr/>
            </p:nvSpPr>
            <p:spPr>
              <a:xfrm>
                <a:off x="2627280" y="4525920"/>
                <a:ext cx="1219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Straight Connector 4"/>
          <p:cNvSpPr/>
          <p:nvPr/>
        </p:nvSpPr>
        <p:spPr>
          <a:xfrm>
            <a:off x="0" y="3532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Straight Connector 6"/>
          <p:cNvSpPr/>
          <p:nvPr/>
        </p:nvSpPr>
        <p:spPr>
          <a:xfrm>
            <a:off x="4462560" y="3503520"/>
            <a:ext cx="0" cy="334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7"/>
          <p:cNvSpPr/>
          <p:nvPr/>
        </p:nvSpPr>
        <p:spPr>
          <a:xfrm>
            <a:off x="4462560" y="3531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T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=   Var(X)+Var(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27"/>
          <p:cNvSpPr/>
          <p:nvPr/>
        </p:nvSpPr>
        <p:spPr>
          <a:xfrm>
            <a:off x="4560840" y="40543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2"/>
          <p:cNvSpPr/>
          <p:nvPr/>
        </p:nvSpPr>
        <p:spPr>
          <a:xfrm>
            <a:off x="0" y="5619240"/>
            <a:ext cx="9144000" cy="109944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So, assuming that the weights of boys and girls ar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we would expect the combined weight of a randomly chosen boy &amp; girl to b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128k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with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of 6.403k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(4sf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27"/>
          <p:cNvSpPr/>
          <p:nvPr/>
        </p:nvSpPr>
        <p:spPr>
          <a:xfrm>
            <a:off x="4583160" y="44384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3" name="Object 3"/>
              <p:cNvSpPr txBox="1"/>
              <p:nvPr/>
            </p:nvSpPr>
            <p:spPr>
              <a:xfrm>
                <a:off x="4489560" y="5029200"/>
                <a:ext cx="1573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Object 5"/>
              <p:cNvSpPr txBox="1"/>
              <p:nvPr/>
            </p:nvSpPr>
            <p:spPr>
              <a:xfrm>
                <a:off x="6124680" y="5037120"/>
                <a:ext cx="720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5" name="Rectangle 27"/>
          <p:cNvSpPr/>
          <p:nvPr/>
        </p:nvSpPr>
        <p:spPr>
          <a:xfrm>
            <a:off x="6767640" y="501120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6.403kg (4s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2"/>
          <p:cNvSpPr/>
          <p:nvPr/>
        </p:nvSpPr>
        <p:spPr>
          <a:xfrm>
            <a:off x="0" y="5357880"/>
            <a:ext cx="9144000" cy="15001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5"/>
          <p:cNvSpPr/>
          <p:nvPr/>
        </p:nvSpPr>
        <p:spPr>
          <a:xfrm>
            <a:off x="179280" y="59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W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BTRACT the MEAN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, but still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ADD the VARIANCE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6"/>
          <p:cNvSpPr/>
          <p:nvPr/>
        </p:nvSpPr>
        <p:spPr>
          <a:xfrm>
            <a:off x="250920" y="260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DIFFERENCE BETWEEN 2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7"/>
          <p:cNvSpPr/>
          <p:nvPr/>
        </p:nvSpPr>
        <p:spPr>
          <a:xfrm>
            <a:off x="2714760" y="1285920"/>
            <a:ext cx="4248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8"/>
          <p:cNvSpPr/>
          <p:nvPr/>
        </p:nvSpPr>
        <p:spPr>
          <a:xfrm>
            <a:off x="1332000" y="227664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-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9"/>
          <p:cNvSpPr/>
          <p:nvPr/>
        </p:nvSpPr>
        <p:spPr>
          <a:xfrm>
            <a:off x="395280" y="3068640"/>
            <a:ext cx="8748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0"/>
          <p:cNvSpPr/>
          <p:nvPr/>
        </p:nvSpPr>
        <p:spPr>
          <a:xfrm>
            <a:off x="395280" y="4149720"/>
            <a:ext cx="8748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-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4" name="Object 11"/>
              <p:cNvSpPr txBox="1"/>
              <p:nvPr/>
            </p:nvSpPr>
            <p:spPr>
              <a:xfrm>
                <a:off x="5684760" y="4221000"/>
                <a:ext cx="3316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4" dur="30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2"/>
          <p:cNvSpPr/>
          <p:nvPr/>
        </p:nvSpPr>
        <p:spPr>
          <a:xfrm>
            <a:off x="0" y="2852640"/>
            <a:ext cx="9144000" cy="15001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4"/>
          <p:cNvSpPr/>
          <p:nvPr/>
        </p:nvSpPr>
        <p:spPr>
          <a:xfrm>
            <a:off x="0" y="351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W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BTRACT the MEAN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, but still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ADD the VARIANCE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5"/>
          <p:cNvSpPr/>
          <p:nvPr/>
        </p:nvSpPr>
        <p:spPr>
          <a:xfrm>
            <a:off x="250920" y="260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"/>
          <p:cNvSpPr/>
          <p:nvPr/>
        </p:nvSpPr>
        <p:spPr>
          <a:xfrm>
            <a:off x="1332000" y="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-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8"/>
          <p:cNvSpPr/>
          <p:nvPr/>
        </p:nvSpPr>
        <p:spPr>
          <a:xfrm>
            <a:off x="395280" y="792000"/>
            <a:ext cx="8748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9"/>
          <p:cNvSpPr/>
          <p:nvPr/>
        </p:nvSpPr>
        <p:spPr>
          <a:xfrm>
            <a:off x="395280" y="1873080"/>
            <a:ext cx="8748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-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2" name="Object 10"/>
              <p:cNvSpPr txBox="1"/>
              <p:nvPr/>
            </p:nvSpPr>
            <p:spPr>
              <a:xfrm>
                <a:off x="5684760" y="1989000"/>
                <a:ext cx="3316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3" name="Rectangle 11"/>
          <p:cNvSpPr/>
          <p:nvPr/>
        </p:nvSpPr>
        <p:spPr>
          <a:xfrm>
            <a:off x="0" y="4797360"/>
            <a:ext cx="9144000" cy="20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12"/>
          <p:cNvSpPr/>
          <p:nvPr/>
        </p:nvSpPr>
        <p:spPr>
          <a:xfrm>
            <a:off x="503280" y="4446360"/>
            <a:ext cx="864072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contents of a tin of cat food have a distribution with mean 50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6 g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food removed has a distribution with mean 6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4 g. Calculate the mean and standard devi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the amount of food left in the tin after one spoonful is remo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3"/>
          <p:cNvSpPr/>
          <p:nvPr/>
        </p:nvSpPr>
        <p:spPr>
          <a:xfrm>
            <a:off x="0" y="4869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8"/>
          <p:cNvSpPr/>
          <p:nvPr/>
        </p:nvSpPr>
        <p:spPr>
          <a:xfrm>
            <a:off x="0" y="0"/>
            <a:ext cx="9144000" cy="20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9"/>
          <p:cNvSpPr/>
          <p:nvPr/>
        </p:nvSpPr>
        <p:spPr>
          <a:xfrm>
            <a:off x="503280" y="-351000"/>
            <a:ext cx="864072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contents of a tin of cat food have a distribution with mean 50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6 g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food removed has a distribution with mean 6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4 g. Calculate the mean and standard devi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the amount of food left in the tin after one spoonful is remo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10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4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9"/>
          <p:cNvSpPr/>
          <p:nvPr/>
        </p:nvSpPr>
        <p:spPr>
          <a:xfrm>
            <a:off x="611280" y="205956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10"/>
          <p:cNvSpPr/>
          <p:nvPr/>
        </p:nvSpPr>
        <p:spPr>
          <a:xfrm>
            <a:off x="611280" y="2445840"/>
            <a:ext cx="55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11"/>
          <p:cNvSpPr/>
          <p:nvPr/>
        </p:nvSpPr>
        <p:spPr>
          <a:xfrm>
            <a:off x="4214880" y="2506680"/>
            <a:ext cx="4321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Write an expression for the volume of food left in the tin once the spoonful is removed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9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20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21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30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2"/>
          <p:cNvSpPr/>
          <p:nvPr/>
        </p:nvSpPr>
        <p:spPr>
          <a:xfrm>
            <a:off x="0" y="3632040"/>
            <a:ext cx="4057560" cy="32259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4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9"/>
          <p:cNvSpPr/>
          <p:nvPr/>
        </p:nvSpPr>
        <p:spPr>
          <a:xfrm>
            <a:off x="611280" y="205956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0"/>
          <p:cNvSpPr/>
          <p:nvPr/>
        </p:nvSpPr>
        <p:spPr>
          <a:xfrm>
            <a:off x="611280" y="24458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2"/>
          <p:cNvSpPr/>
          <p:nvPr/>
        </p:nvSpPr>
        <p:spPr>
          <a:xfrm>
            <a:off x="0" y="3666960"/>
            <a:ext cx="914400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the expected volume of cat food remaining – i.e. E[</a:t>
            </a:r>
            <a:r>
              <a:rPr b="1" i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X–Y</a:t>
            </a:r>
            <a:r>
              <a:rPr b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]</a:t>
            </a:r>
            <a:r>
              <a:rPr b="1" i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19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0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21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30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8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9"/>
          <p:cNvSpPr/>
          <p:nvPr/>
        </p:nvSpPr>
        <p:spPr>
          <a:xfrm>
            <a:off x="539640" y="2445840"/>
            <a:ext cx="80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0"/>
          <p:cNvSpPr/>
          <p:nvPr/>
        </p:nvSpPr>
        <p:spPr>
          <a:xfrm>
            <a:off x="5724360" y="3691080"/>
            <a:ext cx="32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Var(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X–Y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7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21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22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3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29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9"/>
          <p:cNvSpPr/>
          <p:nvPr/>
        </p:nvSpPr>
        <p:spPr>
          <a:xfrm>
            <a:off x="539640" y="244584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10"/>
          <p:cNvSpPr/>
          <p:nvPr/>
        </p:nvSpPr>
        <p:spPr>
          <a:xfrm>
            <a:off x="4829040" y="5206680"/>
            <a:ext cx="2767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</a:t>
            </a:r>
            <a:r>
              <a:rPr b="1" i="1" lang="el-GR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σ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  <a:ea typeface="Arial"/>
              </a:rPr>
              <a:t>X–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20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2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25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26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8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32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16"/>
          <p:cNvSpPr/>
          <p:nvPr/>
        </p:nvSpPr>
        <p:spPr>
          <a:xfrm>
            <a:off x="5899680" y="3599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7"/>
          <p:cNvSpPr/>
          <p:nvPr/>
        </p:nvSpPr>
        <p:spPr>
          <a:xfrm>
            <a:off x="5695560" y="4158000"/>
            <a:ext cx="13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8"/>
          <p:cNvSpPr/>
          <p:nvPr/>
        </p:nvSpPr>
        <p:spPr>
          <a:xfrm>
            <a:off x="5720760" y="467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19"/>
          <p:cNvSpPr/>
          <p:nvPr/>
        </p:nvSpPr>
        <p:spPr>
          <a:xfrm>
            <a:off x="4349160" y="3573000"/>
            <a:ext cx="17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2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3"/>
          <p:cNvSpPr/>
          <p:nvPr/>
        </p:nvSpPr>
        <p:spPr>
          <a:xfrm>
            <a:off x="6012000" y="5734080"/>
            <a:ext cx="216360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9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0"/>
          <p:cNvSpPr/>
          <p:nvPr/>
        </p:nvSpPr>
        <p:spPr>
          <a:xfrm>
            <a:off x="539640" y="2445840"/>
            <a:ext cx="824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Rectangle 16"/>
          <p:cNvSpPr/>
          <p:nvPr/>
        </p:nvSpPr>
        <p:spPr>
          <a:xfrm>
            <a:off x="5899680" y="3599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17"/>
          <p:cNvSpPr/>
          <p:nvPr/>
        </p:nvSpPr>
        <p:spPr>
          <a:xfrm>
            <a:off x="5695560" y="4158000"/>
            <a:ext cx="13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18"/>
          <p:cNvSpPr/>
          <p:nvPr/>
        </p:nvSpPr>
        <p:spPr>
          <a:xfrm>
            <a:off x="5720760" y="467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19"/>
          <p:cNvSpPr/>
          <p:nvPr/>
        </p:nvSpPr>
        <p:spPr>
          <a:xfrm>
            <a:off x="4349160" y="3573000"/>
            <a:ext cx="17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20"/>
          <p:cNvSpPr/>
          <p:nvPr/>
        </p:nvSpPr>
        <p:spPr>
          <a:xfrm>
            <a:off x="5006880" y="5196600"/>
            <a:ext cx="11714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1"/>
          <p:cNvSpPr/>
          <p:nvPr/>
        </p:nvSpPr>
        <p:spPr>
          <a:xfrm>
            <a:off x="5643720" y="5733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211 g   (4 s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9" name="Object 22"/>
          <p:cNvGraphicFramePr/>
          <p:nvPr/>
        </p:nvGraphicFramePr>
        <p:xfrm>
          <a:off x="5923080" y="5330880"/>
          <a:ext cx="5778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5330880"/>
                    <a:ext cx="577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1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tangle 23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2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25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26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28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57760" y="2286000"/>
            <a:ext cx="5286240" cy="100872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g. 169 (Q187, 188 on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n Sigma (old) – pg. 4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. 2.9 (skip Q2) – FINISH FOR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12"/>
          <p:cNvSpPr/>
          <p:nvPr/>
        </p:nvSpPr>
        <p:spPr>
          <a:xfrm>
            <a:off x="4143240" y="6121800"/>
            <a:ext cx="500076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standard deviation of the remaining volume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7.211g (4SF)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Extension work– Linear combinations of 2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a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linear combinatio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HW q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&amp;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2 &amp; 43: Ex. 2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tension:  NuLake p169 &amp; 170:  Questions 189-1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DO NOT DO Q195 on (not covered y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6"/>
          <p:cNvSpPr/>
          <p:nvPr/>
        </p:nvSpPr>
        <p:spPr>
          <a:xfrm>
            <a:off x="250920" y="557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COMBINATIONS OF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7"/>
          <p:cNvSpPr/>
          <p:nvPr/>
        </p:nvSpPr>
        <p:spPr>
          <a:xfrm>
            <a:off x="1643040" y="1571760"/>
            <a:ext cx="53038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8"/>
          <p:cNvSpPr/>
          <p:nvPr/>
        </p:nvSpPr>
        <p:spPr>
          <a:xfrm>
            <a:off x="1116000" y="24289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9"/>
          <p:cNvSpPr/>
          <p:nvPr/>
        </p:nvSpPr>
        <p:spPr>
          <a:xfrm>
            <a:off x="179280" y="314964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10"/>
          <p:cNvSpPr/>
          <p:nvPr/>
        </p:nvSpPr>
        <p:spPr>
          <a:xfrm>
            <a:off x="0" y="394164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8" name="Object 11"/>
              <p:cNvSpPr txBox="1"/>
              <p:nvPr/>
            </p:nvSpPr>
            <p:spPr>
              <a:xfrm>
                <a:off x="4878360" y="401328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69" name="Rectangle 4"/>
          <p:cNvSpPr/>
          <p:nvPr/>
        </p:nvSpPr>
        <p:spPr>
          <a:xfrm>
            <a:off x="0" y="4857840"/>
            <a:ext cx="9144000" cy="2000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425520" y="4749480"/>
            <a:ext cx="81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re independent random variables.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0,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3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3 and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4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6"/>
          <p:cNvSpPr/>
          <p:nvPr/>
        </p:nvSpPr>
        <p:spPr>
          <a:xfrm>
            <a:off x="250920" y="18900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COMBINATIONS OF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7"/>
          <p:cNvSpPr/>
          <p:nvPr/>
        </p:nvSpPr>
        <p:spPr>
          <a:xfrm>
            <a:off x="1714680" y="1197000"/>
            <a:ext cx="50893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8"/>
          <p:cNvSpPr/>
          <p:nvPr/>
        </p:nvSpPr>
        <p:spPr>
          <a:xfrm>
            <a:off x="1116000" y="206064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9"/>
          <p:cNvSpPr/>
          <p:nvPr/>
        </p:nvSpPr>
        <p:spPr>
          <a:xfrm>
            <a:off x="179280" y="278136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12"/>
          <p:cNvSpPr/>
          <p:nvPr/>
        </p:nvSpPr>
        <p:spPr>
          <a:xfrm>
            <a:off x="0" y="424332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10"/>
          <p:cNvSpPr/>
          <p:nvPr/>
        </p:nvSpPr>
        <p:spPr>
          <a:xfrm>
            <a:off x="0" y="357336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13"/>
          <p:cNvSpPr/>
          <p:nvPr/>
        </p:nvSpPr>
        <p:spPr>
          <a:xfrm>
            <a:off x="415800" y="4419720"/>
            <a:ext cx="8681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$50 per kg for the lead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$20 per litre for the sulphuric acid content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standard deviations 30 g (0.03 kg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10 mL (0.01 L) respectively. What is the standard devi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9" name="Object 11"/>
              <p:cNvSpPr txBox="1"/>
              <p:nvPr/>
            </p:nvSpPr>
            <p:spPr>
              <a:xfrm>
                <a:off x="4878360" y="36450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80" name="Text Box 14"/>
          <p:cNvSpPr/>
          <p:nvPr/>
        </p:nvSpPr>
        <p:spPr>
          <a:xfrm>
            <a:off x="0" y="4365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2"/>
          <p:cNvSpPr/>
          <p:nvPr/>
        </p:nvSpPr>
        <p:spPr>
          <a:xfrm>
            <a:off x="0" y="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5"/>
          <p:cNvSpPr/>
          <p:nvPr/>
        </p:nvSpPr>
        <p:spPr>
          <a:xfrm>
            <a:off x="378000" y="187560"/>
            <a:ext cx="8681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$50 per kg for the lead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$20 per litre for the sulphuric acid content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standard deviations 30 g (0.03 kg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10 mL (0.01 L) respectively. What is the standard devi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2"/>
          <p:cNvSpPr/>
          <p:nvPr/>
        </p:nvSpPr>
        <p:spPr>
          <a:xfrm>
            <a:off x="2143080" y="6389640"/>
            <a:ext cx="3000600" cy="468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0" y="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7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8"/>
          <p:cNvSpPr/>
          <p:nvPr/>
        </p:nvSpPr>
        <p:spPr>
          <a:xfrm>
            <a:off x="409680" y="2553840"/>
            <a:ext cx="85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be the content of lead in kg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be the content in litres of acid recoverable from each battery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    5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2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gives the total ref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12"/>
          <p:cNvSpPr/>
          <p:nvPr/>
        </p:nvSpPr>
        <p:spPr>
          <a:xfrm>
            <a:off x="5643720" y="428688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Var(50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 + 20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Y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)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13"/>
          <p:cNvSpPr/>
          <p:nvPr/>
        </p:nvSpPr>
        <p:spPr>
          <a:xfrm>
            <a:off x="-5760" y="4215960"/>
            <a:ext cx="23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20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14"/>
          <p:cNvSpPr/>
          <p:nvPr/>
        </p:nvSpPr>
        <p:spPr>
          <a:xfrm>
            <a:off x="2181240" y="464400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00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400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15"/>
          <p:cNvSpPr/>
          <p:nvPr/>
        </p:nvSpPr>
        <p:spPr>
          <a:xfrm>
            <a:off x="2119680" y="5059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0.0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16"/>
          <p:cNvSpPr/>
          <p:nvPr/>
        </p:nvSpPr>
        <p:spPr>
          <a:xfrm>
            <a:off x="2182320" y="547596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.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17"/>
          <p:cNvSpPr/>
          <p:nvPr/>
        </p:nvSpPr>
        <p:spPr>
          <a:xfrm>
            <a:off x="5214960" y="590292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σ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50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X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+ 20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18"/>
          <p:cNvSpPr/>
          <p:nvPr/>
        </p:nvSpPr>
        <p:spPr>
          <a:xfrm>
            <a:off x="990000" y="5839560"/>
            <a:ext cx="1706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+20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Object 19"/>
          <p:cNvGraphicFramePr/>
          <p:nvPr/>
        </p:nvGraphicFramePr>
        <p:xfrm>
          <a:off x="2443320" y="6006960"/>
          <a:ext cx="8190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6006960"/>
                    <a:ext cx="819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1" name="Rectangle 20"/>
          <p:cNvSpPr/>
          <p:nvPr/>
        </p:nvSpPr>
        <p:spPr>
          <a:xfrm>
            <a:off x="2147400" y="6399720"/>
            <a:ext cx="30398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$1.5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(nearest c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21"/>
          <p:cNvSpPr/>
          <p:nvPr/>
        </p:nvSpPr>
        <p:spPr>
          <a:xfrm>
            <a:off x="2442240" y="422640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3"/>
          <p:cNvSpPr/>
          <p:nvPr/>
        </p:nvSpPr>
        <p:spPr>
          <a:xfrm>
            <a:off x="262440" y="187560"/>
            <a:ext cx="8913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$50 per k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o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$20 per lit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o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lphuric acid con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s 30 g (0.03 kg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10 mL (0.01 L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respectively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 Unicode MS"/>
              </a:rPr>
              <a:t>What is the standard deviation of </a:t>
            </a: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 Unicode MS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500040" y="357120"/>
            <a:ext cx="7858080" cy="180036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old) pg. 42 &amp; 43: Ex. 2.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xtension: Once you’ve finished thi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169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70 – Q189-194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7 – Difference between Sums and Linear Combinations of independent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 do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TARTER: HANDOUT TO GO WITH IT - Sigma coin-tossing investigation (new – Ex. 7.08, old – Ex. 2.8) + Chicken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nish Sigma Ex. 2.10 (7.10 in ne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uLake pg. 169, 170 – Q188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94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n past Probability exams (AS9064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2"/>
          <p:cNvSpPr/>
          <p:nvPr/>
        </p:nvSpPr>
        <p:spPr>
          <a:xfrm>
            <a:off x="0" y="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5"/>
          <p:cNvSpPr/>
          <p:nvPr/>
        </p:nvSpPr>
        <p:spPr>
          <a:xfrm>
            <a:off x="261000" y="37512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Rectangle 5"/>
          <p:cNvSpPr/>
          <p:nvPr/>
        </p:nvSpPr>
        <p:spPr>
          <a:xfrm>
            <a:off x="12600" y="96804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MPL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sider tossing a fair six-sided die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is the number on the top fac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5"/>
          <p:cNvSpPr/>
          <p:nvPr/>
        </p:nvSpPr>
        <p:spPr>
          <a:xfrm>
            <a:off x="73080" y="17355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ean and varian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3" name=""/>
          <p:cNvGraphicFramePr/>
          <p:nvPr/>
        </p:nvGraphicFramePr>
        <p:xfrm>
          <a:off x="195120" y="2549520"/>
          <a:ext cx="7128000" cy="13082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4920"/>
                <a:gridCol w="1008000"/>
                <a:gridCol w="1008000"/>
                <a:gridCol w="1081080"/>
                <a:gridCol w="10796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14" name="Picture 13" descr=""/>
          <p:cNvPicPr/>
          <p:nvPr/>
        </p:nvPicPr>
        <p:blipFill>
          <a:blip r:embed="rId1"/>
          <a:stretch/>
        </p:blipFill>
        <p:spPr>
          <a:xfrm>
            <a:off x="65160" y="4221000"/>
            <a:ext cx="998676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5" name="Object 1"/>
              <p:cNvSpPr txBox="1"/>
              <p:nvPr/>
            </p:nvSpPr>
            <p:spPr>
              <a:xfrm>
                <a:off x="1527120" y="303840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2"/>
              <p:cNvSpPr txBox="1"/>
              <p:nvPr/>
            </p:nvSpPr>
            <p:spPr>
              <a:xfrm>
                <a:off x="2463840" y="30574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7" name="Object 3"/>
              <p:cNvSpPr txBox="1"/>
              <p:nvPr/>
            </p:nvSpPr>
            <p:spPr>
              <a:xfrm>
                <a:off x="3451320" y="30607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8" name="Object 4"/>
              <p:cNvSpPr txBox="1"/>
              <p:nvPr/>
            </p:nvSpPr>
            <p:spPr>
              <a:xfrm>
                <a:off x="4481640" y="308916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9" name="Object 5"/>
              <p:cNvSpPr txBox="1"/>
              <p:nvPr/>
            </p:nvSpPr>
            <p:spPr>
              <a:xfrm>
                <a:off x="5559480" y="30574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0" name="Object 6"/>
              <p:cNvSpPr txBox="1"/>
              <p:nvPr/>
            </p:nvSpPr>
            <p:spPr>
              <a:xfrm>
                <a:off x="6537240" y="307656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1" name="TextBox 19"/>
          <p:cNvSpPr/>
          <p:nvPr/>
        </p:nvSpPr>
        <p:spPr>
          <a:xfrm>
            <a:off x="1295280" y="403560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2" name="Object 20"/>
              <p:cNvSpPr txBox="1"/>
              <p:nvPr/>
            </p:nvSpPr>
            <p:spPr>
              <a:xfrm>
                <a:off x="5079960" y="3855960"/>
                <a:ext cx="56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Object 7"/>
              <p:cNvSpPr txBox="1"/>
              <p:nvPr/>
            </p:nvSpPr>
            <p:spPr>
              <a:xfrm>
                <a:off x="1014480" y="504360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4" name="Object 8"/>
              <p:cNvSpPr txBox="1"/>
              <p:nvPr/>
            </p:nvSpPr>
            <p:spPr>
              <a:xfrm>
                <a:off x="957240" y="5527800"/>
                <a:ext cx="1098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Object 9"/>
              <p:cNvSpPr txBox="1"/>
              <p:nvPr/>
            </p:nvSpPr>
            <p:spPr>
              <a:xfrm>
                <a:off x="1090440" y="6246720"/>
                <a:ext cx="763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2"/>
          <p:cNvSpPr/>
          <p:nvPr/>
        </p:nvSpPr>
        <p:spPr>
          <a:xfrm>
            <a:off x="0" y="-175428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4"/>
          <p:cNvSpPr/>
          <p:nvPr/>
        </p:nvSpPr>
        <p:spPr>
          <a:xfrm>
            <a:off x="6845400" y="4684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6"/>
          <p:cNvSpPr/>
          <p:nvPr/>
        </p:nvSpPr>
        <p:spPr>
          <a:xfrm>
            <a:off x="375912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5"/>
          <p:cNvSpPr/>
          <p:nvPr/>
        </p:nvSpPr>
        <p:spPr>
          <a:xfrm>
            <a:off x="261000" y="37512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195120" y="795240"/>
          <a:ext cx="7128000" cy="13082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4920"/>
                <a:gridCol w="1008000"/>
                <a:gridCol w="1008000"/>
                <a:gridCol w="1081080"/>
                <a:gridCol w="10796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31" name="Picture 13" descr=""/>
          <p:cNvPicPr/>
          <p:nvPr/>
        </p:nvPicPr>
        <p:blipFill>
          <a:blip r:embed="rId1"/>
          <a:stretch/>
        </p:blipFill>
        <p:spPr>
          <a:xfrm>
            <a:off x="87480" y="2513160"/>
            <a:ext cx="9986760" cy="263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2" name="Object 1"/>
              <p:cNvSpPr txBox="1"/>
              <p:nvPr/>
            </p:nvSpPr>
            <p:spPr>
              <a:xfrm>
                <a:off x="1547640" y="1341360"/>
                <a:ext cx="287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Object 2"/>
              <p:cNvSpPr txBox="1"/>
              <p:nvPr/>
            </p:nvSpPr>
            <p:spPr>
              <a:xfrm>
                <a:off x="2484360" y="136044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Object 3"/>
              <p:cNvSpPr txBox="1"/>
              <p:nvPr/>
            </p:nvSpPr>
            <p:spPr>
              <a:xfrm>
                <a:off x="3471840" y="13636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Object 4"/>
              <p:cNvSpPr txBox="1"/>
              <p:nvPr/>
            </p:nvSpPr>
            <p:spPr>
              <a:xfrm>
                <a:off x="4502160" y="13921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Object 5"/>
              <p:cNvSpPr txBox="1"/>
              <p:nvPr/>
            </p:nvSpPr>
            <p:spPr>
              <a:xfrm>
                <a:off x="5580000" y="136044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Object 11"/>
              <p:cNvSpPr txBox="1"/>
              <p:nvPr/>
            </p:nvSpPr>
            <p:spPr>
              <a:xfrm>
                <a:off x="6558120" y="13795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8" name="TextBox 19"/>
          <p:cNvSpPr/>
          <p:nvPr/>
        </p:nvSpPr>
        <p:spPr>
          <a:xfrm>
            <a:off x="1295280" y="228276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9" name="Object 20"/>
              <p:cNvSpPr txBox="1"/>
              <p:nvPr/>
            </p:nvSpPr>
            <p:spPr>
              <a:xfrm>
                <a:off x="5079960" y="2103480"/>
                <a:ext cx="56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0" name="Object 21"/>
              <p:cNvSpPr txBox="1"/>
              <p:nvPr/>
            </p:nvSpPr>
            <p:spPr>
              <a:xfrm>
                <a:off x="1028880" y="328464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1" name="Object 22"/>
              <p:cNvSpPr txBox="1"/>
              <p:nvPr/>
            </p:nvSpPr>
            <p:spPr>
              <a:xfrm>
                <a:off x="971640" y="3768840"/>
                <a:ext cx="10983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Object 24"/>
              <p:cNvSpPr txBox="1"/>
              <p:nvPr/>
            </p:nvSpPr>
            <p:spPr>
              <a:xfrm>
                <a:off x="1104840" y="4487760"/>
                <a:ext cx="763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43" name="Rectangle 5"/>
          <p:cNvSpPr/>
          <p:nvPr/>
        </p:nvSpPr>
        <p:spPr>
          <a:xfrm>
            <a:off x="0" y="53481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se two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5"/>
          <p:cNvSpPr/>
          <p:nvPr/>
        </p:nvSpPr>
        <p:spPr>
          <a:xfrm>
            <a:off x="258840" y="5902920"/>
            <a:ext cx="892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Doubling the number on the top face (case 1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5"/>
          <p:cNvSpPr/>
          <p:nvPr/>
        </p:nvSpPr>
        <p:spPr>
          <a:xfrm>
            <a:off x="243000" y="6394680"/>
            <a:ext cx="89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ossing the die twice and adding the two results together (case 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4"/>
          <p:cNvSpPr/>
          <p:nvPr/>
        </p:nvSpPr>
        <p:spPr>
          <a:xfrm>
            <a:off x="6838920" y="29113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6"/>
          <p:cNvSpPr/>
          <p:nvPr/>
        </p:nvSpPr>
        <p:spPr>
          <a:xfrm>
            <a:off x="3753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5"/>
          <p:cNvSpPr/>
          <p:nvPr/>
        </p:nvSpPr>
        <p:spPr>
          <a:xfrm>
            <a:off x="167400" y="11484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9" name="Picture 13" descr=""/>
          <p:cNvPicPr/>
          <p:nvPr/>
        </p:nvPicPr>
        <p:blipFill>
          <a:blip r:embed="rId1"/>
          <a:stretch/>
        </p:blipFill>
        <p:spPr>
          <a:xfrm>
            <a:off x="81000" y="738360"/>
            <a:ext cx="9986760" cy="2636640"/>
          </a:xfrm>
          <a:prstGeom prst="rect">
            <a:avLst/>
          </a:prstGeom>
          <a:ln w="0">
            <a:noFill/>
          </a:ln>
        </p:spPr>
      </p:pic>
      <p:sp>
        <p:nvSpPr>
          <p:cNvPr id="2050" name="TextBox 19"/>
          <p:cNvSpPr/>
          <p:nvPr/>
        </p:nvSpPr>
        <p:spPr>
          <a:xfrm>
            <a:off x="1289160" y="5097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Object 20"/>
              <p:cNvSpPr txBox="1"/>
              <p:nvPr/>
            </p:nvSpPr>
            <p:spPr>
              <a:xfrm>
                <a:off x="5079960" y="372960"/>
                <a:ext cx="566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Object 21"/>
              <p:cNvSpPr txBox="1"/>
              <p:nvPr/>
            </p:nvSpPr>
            <p:spPr>
              <a:xfrm>
                <a:off x="1022400" y="151128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Object 22"/>
              <p:cNvSpPr txBox="1"/>
              <p:nvPr/>
            </p:nvSpPr>
            <p:spPr>
              <a:xfrm>
                <a:off x="965160" y="199548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Object 24"/>
              <p:cNvSpPr txBox="1"/>
              <p:nvPr/>
            </p:nvSpPr>
            <p:spPr>
              <a:xfrm>
                <a:off x="1098720" y="2714760"/>
                <a:ext cx="763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5" name="Rectangle 5"/>
          <p:cNvSpPr/>
          <p:nvPr/>
        </p:nvSpPr>
        <p:spPr>
          <a:xfrm>
            <a:off x="3240" y="3411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se two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5"/>
          <p:cNvSpPr/>
          <p:nvPr/>
        </p:nvSpPr>
        <p:spPr>
          <a:xfrm>
            <a:off x="279360" y="3762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Doubling the number on the top face (case 1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5"/>
          <p:cNvSpPr/>
          <p:nvPr/>
        </p:nvSpPr>
        <p:spPr>
          <a:xfrm>
            <a:off x="263520" y="4254120"/>
            <a:ext cx="899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ossing the die twice and adding the two results together (case 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5"/>
          <p:cNvSpPr/>
          <p:nvPr/>
        </p:nvSpPr>
        <p:spPr>
          <a:xfrm>
            <a:off x="-52560" y="470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2.  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se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5"/>
          <p:cNvSpPr/>
          <p:nvPr/>
        </p:nvSpPr>
        <p:spPr>
          <a:xfrm>
            <a:off x="4402080" y="470340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case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traight Connector 2"/>
          <p:cNvSpPr/>
          <p:nvPr/>
        </p:nvSpPr>
        <p:spPr>
          <a:xfrm>
            <a:off x="223920" y="4687920"/>
            <a:ext cx="864396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traight Connector 21"/>
          <p:cNvSpPr/>
          <p:nvPr/>
        </p:nvSpPr>
        <p:spPr>
          <a:xfrm>
            <a:off x="4665600" y="468792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Box 6"/>
          <p:cNvSpPr/>
          <p:nvPr/>
        </p:nvSpPr>
        <p:spPr>
          <a:xfrm>
            <a:off x="336600" y="509436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0000"/>
                </a:solidFill>
                <a:latin typeface="Comic Sans MS"/>
              </a:rPr>
              <a:t>The values of </a:t>
            </a:r>
            <a:r>
              <a:rPr b="1" i="1" lang="en-NZ" sz="1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ff0000"/>
                </a:solidFill>
                <a:latin typeface="Comic Sans MS"/>
              </a:rPr>
              <a:t> are all doub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Box 23"/>
          <p:cNvSpPr/>
          <p:nvPr/>
        </p:nvSpPr>
        <p:spPr>
          <a:xfrm>
            <a:off x="277920" y="5411880"/>
            <a:ext cx="40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So there is still just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variable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.  This is just a linear function of it.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Box 24"/>
          <p:cNvSpPr/>
          <p:nvPr/>
        </p:nvSpPr>
        <p:spPr>
          <a:xfrm>
            <a:off x="336600" y="5972040"/>
            <a:ext cx="1325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distribution of 2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Box 25"/>
          <p:cNvSpPr/>
          <p:nvPr/>
        </p:nvSpPr>
        <p:spPr>
          <a:xfrm>
            <a:off x="1714680" y="597204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Hence Var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  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Box 26"/>
          <p:cNvSpPr/>
          <p:nvPr/>
        </p:nvSpPr>
        <p:spPr>
          <a:xfrm>
            <a:off x="3139920" y="6227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(2.91667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27"/>
          <p:cNvSpPr/>
          <p:nvPr/>
        </p:nvSpPr>
        <p:spPr>
          <a:xfrm>
            <a:off x="3139920" y="648180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11.67 (4s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Straight Connector 32"/>
          <p:cNvSpPr/>
          <p:nvPr/>
        </p:nvSpPr>
        <p:spPr>
          <a:xfrm>
            <a:off x="303120" y="4651200"/>
            <a:ext cx="0" cy="216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Box 33"/>
          <p:cNvSpPr/>
          <p:nvPr/>
        </p:nvSpPr>
        <p:spPr>
          <a:xfrm>
            <a:off x="4670280" y="5133960"/>
            <a:ext cx="45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ff"/>
                </a:solidFill>
                <a:latin typeface="Comic Sans MS"/>
              </a:rPr>
              <a:t>Here there are </a:t>
            </a:r>
            <a:r>
              <a:rPr b="1" lang="en-NZ" sz="1600" spc="-1" strike="noStrike" u="sng">
                <a:solidFill>
                  <a:srgbClr val="0000ff"/>
                </a:solidFill>
                <a:uFillTx/>
                <a:latin typeface="Comic Sans MS"/>
              </a:rPr>
              <a:t>two independent variabl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Box 34"/>
          <p:cNvSpPr/>
          <p:nvPr/>
        </p:nvSpPr>
        <p:spPr>
          <a:xfrm>
            <a:off x="4745160" y="5481720"/>
            <a:ext cx="43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Result of 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toss; 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Result of 2</a:t>
            </a:r>
            <a:r>
              <a:rPr b="1" lang="en-NZ" sz="1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35"/>
          <p:cNvSpPr/>
          <p:nvPr/>
        </p:nvSpPr>
        <p:spPr>
          <a:xfrm>
            <a:off x="4761000" y="5810400"/>
            <a:ext cx="142056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distribution of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Box 36"/>
          <p:cNvSpPr/>
          <p:nvPr/>
        </p:nvSpPr>
        <p:spPr>
          <a:xfrm>
            <a:off x="6094440" y="5888160"/>
            <a:ext cx="311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Var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  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+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Box 37"/>
          <p:cNvSpPr/>
          <p:nvPr/>
        </p:nvSpPr>
        <p:spPr>
          <a:xfrm>
            <a:off x="7213680" y="617364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.91667+ 2.9166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Box 38"/>
          <p:cNvSpPr/>
          <p:nvPr/>
        </p:nvSpPr>
        <p:spPr>
          <a:xfrm>
            <a:off x="7197840" y="6491160"/>
            <a:ext cx="294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5.833 (4s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Rectangle 2"/>
          <p:cNvSpPr/>
          <p:nvPr/>
        </p:nvSpPr>
        <p:spPr>
          <a:xfrm>
            <a:off x="0" y="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5"/>
          <p:cNvSpPr/>
          <p:nvPr/>
        </p:nvSpPr>
        <p:spPr>
          <a:xfrm>
            <a:off x="464040" y="1919520"/>
            <a:ext cx="789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difference between the following two 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5"/>
          <p:cNvSpPr/>
          <p:nvPr/>
        </p:nvSpPr>
        <p:spPr>
          <a:xfrm>
            <a:off x="0" y="790200"/>
            <a:ext cx="89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MPLE 2:  The mean weight of chicken thighs is 200g with a standard deviation of 10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hicken thighs are sold for 3c per 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Box 9"/>
          <p:cNvSpPr/>
          <p:nvPr/>
        </p:nvSpPr>
        <p:spPr>
          <a:xfrm>
            <a:off x="42840" y="2354400"/>
            <a:ext cx="4572000" cy="448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7"/>
          <p:cNvSpPr/>
          <p:nvPr/>
        </p:nvSpPr>
        <p:spPr>
          <a:xfrm>
            <a:off x="0" y="2378160"/>
            <a:ext cx="45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Question A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mea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price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 of one chicken thigh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TextBox 10"/>
          <p:cNvSpPr/>
          <p:nvPr/>
        </p:nvSpPr>
        <p:spPr>
          <a:xfrm>
            <a:off x="4572000" y="2333520"/>
            <a:ext cx="4572000" cy="448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8"/>
          <p:cNvSpPr/>
          <p:nvPr/>
        </p:nvSpPr>
        <p:spPr>
          <a:xfrm>
            <a:off x="4592520" y="2360520"/>
            <a:ext cx="465948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Question B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mea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total weight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3 chicken thigh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5"/>
          <p:cNvSpPr/>
          <p:nvPr/>
        </p:nvSpPr>
        <p:spPr>
          <a:xfrm>
            <a:off x="229320" y="20520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Box 12"/>
          <p:cNvSpPr/>
          <p:nvPr/>
        </p:nvSpPr>
        <p:spPr>
          <a:xfrm>
            <a:off x="790560" y="795240"/>
            <a:ext cx="7715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py this example then do NuLake pg. 169 &amp; 17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Q188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194.  NOTE: Stop after Q194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8 – Revision of Achievement Std 90643 -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ork through Merit &amp; Excellence level problems from all parts of the probability topic – continue in preparation for test (next lesson).  Sort out any areas of weak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through NuLake practice assessment for Probability (pg. 172-1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ntinue for HW as study for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ast NCEA papers (AS90643): 2006, 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imes New Roman"/>
              </a:rPr>
              <a:t>(Achievement Std 9064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6-13T22:23:17Z</dcterms:modified>
  <cp:revision>926</cp:revision>
  <dc:subject>Year 13 Statistics &amp; Modelling</dc:subject>
  <dc:title>Sample statistics &amp; expectation</dc:title>
</cp:coreProperties>
</file>